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14.jpeg" ContentType="image/jpeg"/>
  <Override PartName="/ppt/media/image39.jpeg" ContentType="image/jpeg"/>
  <Override PartName="/ppt/media/image8.png" ContentType="image/png"/>
  <Override PartName="/ppt/media/image31.png" ContentType="image/png"/>
  <Override PartName="/ppt/media/image6.png" ContentType="image/png"/>
  <Override PartName="/ppt/media/image36.jpeg" ContentType="image/jpeg"/>
  <Override PartName="/ppt/media/image38.jpeg" ContentType="image/jpeg"/>
  <Override PartName="/ppt/media/image44.jpeg" ContentType="image/jpeg"/>
  <Override PartName="/ppt/media/image41.png" ContentType="image/png"/>
  <Override PartName="/ppt/media/image42.jpeg" ContentType="image/jpeg"/>
  <Override PartName="/ppt/media/image34.jpeg" ContentType="image/jpeg"/>
  <Override PartName="/ppt/media/image7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dt" idx="19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ldImg"/>
          </p:nvPr>
        </p:nvSpPr>
        <p:spPr>
          <a:xfrm>
            <a:off x="685440" y="1143000"/>
            <a:ext cx="5483160" cy="308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body"/>
          </p:nvPr>
        </p:nvSpPr>
        <p:spPr>
          <a:xfrm>
            <a:off x="685440" y="4400640"/>
            <a:ext cx="548316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0"/>
          </p:nvPr>
        </p:nvSpPr>
        <p:spPr>
          <a:xfrm>
            <a:off x="3884760" y="8685000"/>
            <a:ext cx="2968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DCC7B0-61A9-49BF-AC9B-C38ED387F9E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708D48-B63E-4616-9A87-9C9C2E95C77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F924F4-C0C1-45D6-8100-5D51F2B6D08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B95C05-2A31-4F25-8CB1-AA63265DAD6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B75E1E-582B-463E-8797-4962E5AB3D8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61A7D2-893A-4D21-B002-DED86B8B9C4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7A6CD1-BCA1-4F7F-984C-B8102998230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F0B48C-0CC8-4114-963E-424B1C3A8A0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91A071-27DC-46E1-9523-3F3FE2BEEA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61F3F6-B55F-4827-AFCE-34F3CE86228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9B2626-2F1E-45B0-AF9D-FC5C2458FBB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7744B3-511D-44EA-B475-CF39A4A54C2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5D0734-E237-4CD8-99C2-C7FC3245199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2C2483-9556-4748-A5DD-E8395F64DDE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82A8F1-FA1C-438D-9538-096252717A4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D31F9F-BD1B-480F-A6D4-028D46E9022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B8C683-28B1-4B69-8C5A-3717193E804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3AE8E5-D017-45A4-B136-69269BB8FDC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34E90F-3200-4984-978F-FE32C8CB551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E9C6F1-BCBE-430C-A088-12850485476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F1F53C-347D-4439-8EE3-D1F281A4DE1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65B191-876F-4592-94AC-5FC9A16F4B0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479C62-4179-4B88-B4D0-A0C6C0EBFDA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C6997F-27E3-4471-B179-029BDA9A05E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DEC363-98DD-41BF-A7D3-3826D056071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1720" cy="30844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496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673D10-ECE6-4BA6-A35A-EAB06504DF8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283175-EA99-458C-89C3-E1B7E230016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6D115C-40D9-4142-BFE7-E59E04B4FBB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498292-585F-4F32-8A07-44B2934F348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6A66BE-3544-445A-9B82-BD5AB6C6344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9F3305-1582-4EDD-8959-87B70EDDD0A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4B086C-3A37-4DC3-A8CA-6B6E5EF7A47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F4660B-9864-414A-A8D8-BA27E873A3D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0B5236-5759-4292-8E69-020F625F10C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B167BE-C736-4A68-B83A-AE81F8D2DD9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5699F1-AB76-43FF-8756-4911EB9B748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3F2727-A42F-4B62-ADFB-C5CCE890A33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C9E64D-CF46-4882-918B-BFBC87EACFF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8DEFA3-79FB-40BA-96DF-6C0116C437E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9234D8-114C-4170-A5D0-7AED5EB8A6A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784EA-8E9C-4123-B0E5-1D85CD2848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7ABD9-6C45-4481-A645-945F097B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79AE8-5555-4851-8553-4516EEF8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58AFC-A077-4B42-BB5F-913BA86C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974A0-7CB3-4049-B1D0-90541F8E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1B75B-E76E-4FBD-A372-BEB7E7BD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3E207-871E-474E-9CEB-5CD71D9D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96AC8-4C9E-4FD8-BA9C-71361CDB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EB5BB-9617-4DD9-A30C-0EF35E38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4AE32-7C7C-4C1E-8FA9-D494F5A2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51FD3-7CD1-43EC-883D-6D5AA7DB04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77F1A-ED29-4440-B9A5-A7A117EE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74250-98CF-46EA-8B57-E34C35AF95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AA4A1-6FE7-497F-86FF-BDE2937081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A16B5-1918-4F43-8B6F-BA07DCB0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79AAF-CE36-497A-AB50-FEBBB6FB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2ADF2-EBC2-445C-840C-C9186694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4DCDB-A056-4466-81F6-3ACA402B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349DC-E638-41AA-804D-369E021F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8F930-7DEC-4EAC-A51E-075BD647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A63DB-46E2-4066-882F-002882A5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F4987-545B-4DB0-8983-0D490EAB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E2F05-B370-49B4-B910-7526AE81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A3C92-930B-4563-9248-DF43B396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7125E-B982-4FC8-9796-32D9B8D4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85A5B-488B-46BB-8059-DEC65AA6AE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BB2A-CB00-4B22-9165-30B1D9F4D2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01AD-09FE-4E1E-BCA7-87E26A74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3771-AF7B-496D-95A4-3E179FD9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BBBC-1705-4194-9EC4-146EED06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84AE-C1A7-454A-A57E-954C8C0A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FD5EC-56CB-4850-A19A-743FE8BD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C456-D1EC-421F-AFC7-E03CF110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2E8D-1E5F-4CDC-A89B-8DCC5B8A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F912-4147-4906-9284-BF8D5B39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EA1D-653C-4768-A231-6116F8F0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6F57-BFFE-4374-B773-5FD7EA93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A630-45D3-40B3-9722-0E7AE5DF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298D-A181-41CE-87FA-DD7176DA9E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21FF4-86F4-419D-9DA5-AD071605E8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C017AC-4BE1-4130-B34A-FAF009EA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BAD6B-1835-4548-B73A-DD022E9C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5D41D-4FB8-4869-B3E3-58A79BA0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1D200-758F-4E67-A72C-3CF58282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722E7-0430-460D-AFFA-0229BF32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92FDA-3BB3-49A3-9B98-35CC4B00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385A1D-04B3-4AC2-A925-CF83CF14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EDA77-F644-45A3-AFA7-D8C99606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42970-C234-4BC0-BEE0-E1E38752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94E93-990E-45B9-8A0F-811A8250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85E4D-3694-46BB-B119-D31222E8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899C7-6953-487F-9989-BDC2244448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3E324B-365B-44C2-B1F7-82D90C4DB0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D82CE-6022-4EB1-BE5D-C2857AA3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39D953-0972-4995-B33C-74A2AE74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229EFC-1213-405A-94D9-ADB83D31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29D6A3-FBCD-4C13-8163-74BB092B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0BA08-F863-4DA3-9A31-9F6304CC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D19CCE-F943-4573-AA99-E9B82666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E72B09-111C-49A8-A17B-32048A94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808BDE-B477-4BE0-B6BD-F5D5335C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AE7282-80BD-45F7-BA65-4C263438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738FB4-E8AF-4D00-9613-333DBBE4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216654-11B1-4602-A7EE-202CDECD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77C4C-1546-47BE-830F-A05B543D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D5953D-C558-44DE-B69D-2B01F04C02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78B54-C4C4-4288-A38B-B7B062A1A7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CD807-13D8-45C1-86E4-F4BB826C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F84A0-F41D-4449-BDC7-307F3ED7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89A1E-029F-4D97-905E-ECDE65A0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1AA79-18D2-48E7-9CD3-D7392B17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D662D-28FD-4C7B-9230-47A9C1C5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7A842-1684-466A-8B72-D2EB6AAA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6F796-4AD1-40DB-BB4D-153E7CFC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569CB-ED40-49A9-9652-0C653287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49D79-E387-42EB-BB21-535A4D37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1C9F5-104F-4A3A-AFF9-6E4814BF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6A20E-60B9-4F0E-B3C0-BEAFA8B7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1BE24-201B-4BB1-9D88-3A2CE99088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5134B-59DA-44E9-BE00-BD7341760A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88A18-9012-457A-8378-4DF04086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07BB82-DB1D-436A-8375-F0D39617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36BA3-CEE7-40E1-9BEE-57530394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1ABB26-41A6-4B25-B86A-2CF43E2B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3F65C4-4214-43C1-B974-2D451995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C4B76A-3490-4BEA-A9BB-FC0E3FA5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33822-4991-49EB-82CB-921F5CFA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3AE608-B484-45BF-B553-C2D45697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B61E2-8B39-453D-A44C-A1456861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4F784-FE30-49B6-A60C-5069CA0E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B5DAD-CEFB-4A75-9E22-D8A18964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C2FCB2-4461-4160-A06B-2188AC39AC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C3DA9F-24CB-45E4-95C1-11350059F5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0FC869-BC5A-49D4-8FC8-27592371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7F193B-6AEE-4D4C-8D65-491BF157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6C03D7-A6EB-423C-85D9-45BE58CA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178911-034C-4FDD-B247-5059CD8D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3F28B-8467-4619-8991-C504632D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C76E95-3F25-4E06-B19F-BF27003A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4FFF95-5B0E-4B9F-ABE2-0BAFAD1E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AD253F-B022-4FBD-B601-10426DCC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5C8308-4B0B-4480-AEBA-CDF246D4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129AD5-8025-428D-B882-832EB0A3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CE8F3E-D5F2-4EB3-B289-0BCE8EC7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C478A6-1B8E-4E31-8B2D-83D80F0523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7AF25-6E22-440B-BBC5-02823A9996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0B648-CC69-4D78-8F34-E0FB6856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8833E-5FE4-42C1-A0C5-3BBEA8D3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75F9CE-A85B-4AF9-87D3-BA3746385796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9" name="Picture 10" descr=""/>
            <p:cNvPicPr/>
            <p:nvPr/>
          </p:nvPicPr>
          <p:blipFill>
            <a:blip r:embed="rId4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11" name="Group 12"/>
          <p:cNvGrpSpPr/>
          <p:nvPr/>
        </p:nvGrpSpPr>
        <p:grpSpPr>
          <a:xfrm>
            <a:off x="506520" y="781200"/>
            <a:ext cx="8640720" cy="20520"/>
            <a:chOff x="506520" y="781200"/>
            <a:chExt cx="8640720" cy="20520"/>
          </a:xfrm>
        </p:grpSpPr>
        <p:pic>
          <p:nvPicPr>
            <p:cNvPr id="12" name="Picture 13" descr=""/>
            <p:cNvPicPr/>
            <p:nvPr/>
          </p:nvPicPr>
          <p:blipFill>
            <a:blip r:embed="rId5"/>
            <a:stretch/>
          </p:blipFill>
          <p:spPr>
            <a:xfrm>
              <a:off x="506520" y="78120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440" y="793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506520" y="3998880"/>
            <a:ext cx="8640720" cy="20520"/>
            <a:chOff x="506520" y="3998880"/>
            <a:chExt cx="8640720" cy="20520"/>
          </a:xfrm>
        </p:grpSpPr>
        <p:pic>
          <p:nvPicPr>
            <p:cNvPr id="5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399888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440" y="4013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4855680"/>
            <a:ext cx="75564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CCE43C-DC8B-4AE2-B09C-60EAF1344092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9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98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506520" y="781200"/>
            <a:ext cx="8640720" cy="20520"/>
            <a:chOff x="506520" y="781200"/>
            <a:chExt cx="8640720" cy="20520"/>
          </a:xfrm>
        </p:grpSpPr>
        <p:pic>
          <p:nvPicPr>
            <p:cNvPr id="101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78120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514440" y="793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581280" y="57240"/>
            <a:ext cx="28958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4855680"/>
            <a:ext cx="75564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44B838-6923-449E-95D9-910D1165509A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506520" y="2571840"/>
            <a:ext cx="8640720" cy="21960"/>
            <a:chOff x="506520" y="2571840"/>
            <a:chExt cx="8640720" cy="21960"/>
          </a:xfrm>
        </p:grpSpPr>
        <p:pic>
          <p:nvPicPr>
            <p:cNvPr id="14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2571840"/>
              <a:ext cx="8640720" cy="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440" y="2584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99BD30-1682-4531-9832-4B7FE54BA116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1"/>
          <p:cNvGrpSpPr/>
          <p:nvPr/>
        </p:nvGrpSpPr>
        <p:grpSpPr>
          <a:xfrm>
            <a:off x="506520" y="4505400"/>
            <a:ext cx="8640720" cy="20520"/>
            <a:chOff x="506520" y="4505400"/>
            <a:chExt cx="8640720" cy="20520"/>
          </a:xfrm>
        </p:grpSpPr>
        <p:pic>
          <p:nvPicPr>
            <p:cNvPr id="189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450540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"/>
            <p:cNvSpPr/>
            <p:nvPr/>
          </p:nvSpPr>
          <p:spPr>
            <a:xfrm>
              <a:off x="514440" y="4514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4857480"/>
            <a:ext cx="75888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EBE2F4-D76A-4781-89D6-4F399AE93BB2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C95C00-42DD-485B-B957-2B8902B271A4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"/>
          <p:cNvGrpSpPr/>
          <p:nvPr/>
        </p:nvGrpSpPr>
        <p:grpSpPr>
          <a:xfrm>
            <a:off x="506520" y="4376880"/>
            <a:ext cx="8640720" cy="20520"/>
            <a:chOff x="506520" y="4376880"/>
            <a:chExt cx="8640720" cy="20520"/>
          </a:xfrm>
        </p:grpSpPr>
        <p:pic>
          <p:nvPicPr>
            <p:cNvPr id="274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437688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3"/>
            <p:cNvSpPr/>
            <p:nvPr/>
          </p:nvSpPr>
          <p:spPr>
            <a:xfrm>
              <a:off x="514440" y="438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141490-E9A4-4601-B84D-9A8D58F5C3FC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0F24F4-89A6-4A6C-99E9-10FDAB93C017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5098EE-D43F-41FD-9050-E33A300FE55B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"/>
          <p:cNvPicPr/>
          <p:nvPr/>
        </p:nvPicPr>
        <p:blipFill>
          <a:blip r:embed="rId2"/>
          <a:stretch/>
        </p:blipFill>
        <p:spPr>
          <a:xfrm>
            <a:off x="438120" y="1554120"/>
            <a:ext cx="7950240" cy="14335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2"/>
          <p:cNvSpPr/>
          <p:nvPr/>
        </p:nvSpPr>
        <p:spPr>
          <a:xfrm>
            <a:off x="1911240" y="3525840"/>
            <a:ext cx="56484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2"/>
          <p:cNvSpPr/>
          <p:nvPr/>
        </p:nvSpPr>
        <p:spPr>
          <a:xfrm>
            <a:off x="0" y="0"/>
            <a:ext cx="421164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395280" y="1779480"/>
            <a:ext cx="4572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Вредные привычки </a:t>
            </a: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причина заболеваний центральной нервной системы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54" name="Picture 4" descr=""/>
          <p:cNvPicPr/>
          <p:nvPr/>
        </p:nvPicPr>
        <p:blipFill>
          <a:blip r:embed="rId3"/>
          <a:stretch/>
        </p:blipFill>
        <p:spPr>
          <a:xfrm>
            <a:off x="4211640" y="0"/>
            <a:ext cx="514332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"/>
          <p:cNvPicPr/>
          <p:nvPr/>
        </p:nvPicPr>
        <p:blipFill>
          <a:blip r:embed="rId3"/>
          <a:stretch/>
        </p:blipFill>
        <p:spPr>
          <a:xfrm>
            <a:off x="-14400" y="-839880"/>
            <a:ext cx="9158400" cy="6107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3"/>
          <a:stretch/>
        </p:blipFill>
        <p:spPr>
          <a:xfrm>
            <a:off x="-36360" y="-358920"/>
            <a:ext cx="9180360" cy="553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2"/>
          <p:cNvSpPr/>
          <p:nvPr/>
        </p:nvSpPr>
        <p:spPr>
          <a:xfrm>
            <a:off x="468360" y="1492200"/>
            <a:ext cx="388764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Отрицательное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 действие никотина на центральную нервную систему выражается вначале в её возбуждении, а затем в угнетении. 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676760" y="4280040"/>
            <a:ext cx="408456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Segoe UI"/>
              </a:rPr>
              <a:t>Никотин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62" name="Picture 4" descr=""/>
          <p:cNvPicPr/>
          <p:nvPr/>
        </p:nvPicPr>
        <p:blipFill>
          <a:blip r:embed="rId3"/>
          <a:stretch/>
        </p:blipFill>
        <p:spPr>
          <a:xfrm>
            <a:off x="4676760" y="195120"/>
            <a:ext cx="4084560" cy="408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3"/>
          <a:stretch/>
        </p:blipFill>
        <p:spPr>
          <a:xfrm>
            <a:off x="4000680" y="-1440"/>
            <a:ext cx="5143320" cy="514332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3"/>
          <p:cNvSpPr/>
          <p:nvPr/>
        </p:nvSpPr>
        <p:spPr>
          <a:xfrm>
            <a:off x="-66600" y="-11160"/>
            <a:ext cx="4067280" cy="51436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539640" y="12762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egoe UI"/>
                <a:ea typeface="Times New Roman"/>
              </a:rPr>
              <a:t>Курящие люди становятся раздражительными и легковозбудимыми, у них наруша­ется сон, аппетит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"/>
          <p:cNvPicPr/>
          <p:nvPr/>
        </p:nvPicPr>
        <p:blipFill>
          <a:blip r:embed="rId3"/>
          <a:stretch/>
        </p:blipFill>
        <p:spPr>
          <a:xfrm>
            <a:off x="-181080" y="-25560"/>
            <a:ext cx="10542600" cy="527220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-181080" y="771480"/>
            <a:ext cx="5545080" cy="280836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395280" y="1203480"/>
            <a:ext cx="4572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ередко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возникают расстройства памяти, головные боли, бессонница, дрожание рук, снижается работоспособность, ухудшается настроение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"/>
          <p:cNvPicPr/>
          <p:nvPr/>
        </p:nvPicPr>
        <p:blipFill>
          <a:blip r:embed="rId3"/>
          <a:stretch/>
        </p:blipFill>
        <p:spPr>
          <a:xfrm>
            <a:off x="4572000" y="1119240"/>
            <a:ext cx="3975120" cy="40323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4"/>
          <a:stretch/>
        </p:blipFill>
        <p:spPr>
          <a:xfrm>
            <a:off x="1173240" y="2643120"/>
            <a:ext cx="2555640" cy="1949400"/>
          </a:xfrm>
          <a:prstGeom prst="rect">
            <a:avLst/>
          </a:prstGeom>
          <a:ln w="0">
            <a:noFill/>
          </a:ln>
        </p:spPr>
      </p:pic>
      <p:grpSp>
        <p:nvGrpSpPr>
          <p:cNvPr id="474" name="Group 4"/>
          <p:cNvGrpSpPr/>
          <p:nvPr/>
        </p:nvGrpSpPr>
        <p:grpSpPr>
          <a:xfrm>
            <a:off x="1303200" y="1119240"/>
            <a:ext cx="4849920" cy="1344600"/>
            <a:chOff x="1303200" y="1119240"/>
            <a:chExt cx="4849920" cy="1344600"/>
          </a:xfrm>
        </p:grpSpPr>
        <p:pic>
          <p:nvPicPr>
            <p:cNvPr id="475" name="Picture 5" descr=""/>
            <p:cNvPicPr/>
            <p:nvPr/>
          </p:nvPicPr>
          <p:blipFill>
            <a:blip r:embed="rId5"/>
            <a:stretch/>
          </p:blipFill>
          <p:spPr>
            <a:xfrm>
              <a:off x="1303200" y="1119240"/>
              <a:ext cx="196236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6"/>
            <p:cNvSpPr/>
            <p:nvPr/>
          </p:nvSpPr>
          <p:spPr>
            <a:xfrm>
              <a:off x="3132000" y="1724040"/>
              <a:ext cx="302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этанол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77" name="Line 7"/>
            <p:cNvSpPr/>
            <p:nvPr/>
          </p:nvSpPr>
          <p:spPr>
            <a:xfrm flipH="1">
              <a:off x="2414520" y="2160720"/>
              <a:ext cx="1005120" cy="102960"/>
            </a:xfrm>
            <a:prstGeom prst="line">
              <a:avLst/>
            </a:prstGeom>
            <a:ln w="10080">
              <a:solidFill>
                <a:srgbClr val="40404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79" name="AutoShape 2"/>
          <p:cNvSpPr/>
          <p:nvPr/>
        </p:nvSpPr>
        <p:spPr>
          <a:xfrm>
            <a:off x="2600280" y="771480"/>
            <a:ext cx="394344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Утрачивается разумный контроль над поступками, снижается критическое отношение к себе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Механизм воздействия алкоголя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81" name="AutoShape 4"/>
          <p:cNvSpPr/>
          <p:nvPr/>
        </p:nvSpPr>
        <p:spPr>
          <a:xfrm>
            <a:off x="4427640" y="2257560"/>
            <a:ext cx="431640" cy="64764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82" name="AutoShape 5"/>
          <p:cNvSpPr/>
          <p:nvPr/>
        </p:nvSpPr>
        <p:spPr>
          <a:xfrm>
            <a:off x="2673360" y="3076560"/>
            <a:ext cx="394164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Segoe UI"/>
                <a:ea typeface="Segoe UI"/>
              </a:rPr>
              <a:t>Угнетение тормозных процессов в коре головного мозга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"/>
          <p:cNvPicPr/>
          <p:nvPr/>
        </p:nvPicPr>
        <p:blipFill>
          <a:blip r:embed="rId3"/>
          <a:stretch/>
        </p:blipFill>
        <p:spPr>
          <a:xfrm>
            <a:off x="1440" y="-812880"/>
            <a:ext cx="9142560" cy="608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"/>
          <p:cNvPicPr/>
          <p:nvPr/>
        </p:nvPicPr>
        <p:blipFill>
          <a:blip r:embed="rId3"/>
          <a:stretch/>
        </p:blipFill>
        <p:spPr>
          <a:xfrm>
            <a:off x="-20520" y="-523800"/>
            <a:ext cx="9180360" cy="612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"/>
          <p:cNvPicPr/>
          <p:nvPr/>
        </p:nvPicPr>
        <p:blipFill>
          <a:blip r:embed="rId3"/>
          <a:stretch/>
        </p:blipFill>
        <p:spPr>
          <a:xfrm>
            <a:off x="1692360" y="385920"/>
            <a:ext cx="1820880" cy="4371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4"/>
          <a:stretch/>
        </p:blipFill>
        <p:spPr>
          <a:xfrm>
            <a:off x="4356000" y="771480"/>
            <a:ext cx="3627360" cy="350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"/>
          <p:cNvPicPr/>
          <p:nvPr/>
        </p:nvPicPr>
        <p:blipFill>
          <a:blip r:embed="rId3"/>
          <a:stretch/>
        </p:blipFill>
        <p:spPr>
          <a:xfrm>
            <a:off x="0" y="-6681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" descr=""/>
          <p:cNvPicPr/>
          <p:nvPr/>
        </p:nvPicPr>
        <p:blipFill>
          <a:blip r:embed="rId3"/>
          <a:stretch/>
        </p:blipFill>
        <p:spPr>
          <a:xfrm>
            <a:off x="0" y="-857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"/>
          <p:cNvPicPr/>
          <p:nvPr/>
        </p:nvPicPr>
        <p:blipFill>
          <a:blip r:embed="rId3"/>
          <a:stretch/>
        </p:blipFill>
        <p:spPr>
          <a:xfrm>
            <a:off x="2820960" y="1241280"/>
            <a:ext cx="3311640" cy="3567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4"/>
          <a:stretch/>
        </p:blipFill>
        <p:spPr>
          <a:xfrm>
            <a:off x="3397320" y="268200"/>
            <a:ext cx="2482920" cy="194796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4"/>
          <p:cNvGrpSpPr/>
          <p:nvPr/>
        </p:nvGrpSpPr>
        <p:grpSpPr>
          <a:xfrm>
            <a:off x="5052600" y="538200"/>
            <a:ext cx="3890880" cy="1166760"/>
            <a:chOff x="5052600" y="538200"/>
            <a:chExt cx="3890880" cy="1166760"/>
          </a:xfrm>
        </p:grpSpPr>
        <p:sp>
          <p:nvSpPr>
            <p:cNvPr id="495" name="Text Box 5"/>
            <p:cNvSpPr/>
            <p:nvPr/>
          </p:nvSpPr>
          <p:spPr>
            <a:xfrm>
              <a:off x="5919840" y="538200"/>
              <a:ext cx="30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питательные вещества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96" name="Line 6"/>
            <p:cNvSpPr/>
            <p:nvPr/>
          </p:nvSpPr>
          <p:spPr>
            <a:xfrm flipH="1">
              <a:off x="5052600" y="1012680"/>
              <a:ext cx="2151720" cy="692280"/>
            </a:xfrm>
            <a:prstGeom prst="line">
              <a:avLst/>
            </a:prstGeom>
            <a:ln w="10080">
              <a:solidFill>
                <a:srgbClr val="40404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97" name="Group 7"/>
          <p:cNvGrpSpPr/>
          <p:nvPr/>
        </p:nvGrpSpPr>
        <p:grpSpPr>
          <a:xfrm>
            <a:off x="1138320" y="914400"/>
            <a:ext cx="3020760" cy="381960"/>
            <a:chOff x="1138320" y="914400"/>
            <a:chExt cx="3020760" cy="381960"/>
          </a:xfrm>
        </p:grpSpPr>
        <p:sp>
          <p:nvSpPr>
            <p:cNvPr id="498" name="Text Box 8"/>
            <p:cNvSpPr/>
            <p:nvPr/>
          </p:nvSpPr>
          <p:spPr>
            <a:xfrm>
              <a:off x="1138320" y="914400"/>
              <a:ext cx="30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кислород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99" name="Line 9"/>
            <p:cNvSpPr/>
            <p:nvPr/>
          </p:nvSpPr>
          <p:spPr>
            <a:xfrm flipV="1">
              <a:off x="1676520" y="1204560"/>
              <a:ext cx="2130480" cy="91800"/>
            </a:xfrm>
            <a:prstGeom prst="line">
              <a:avLst/>
            </a:prstGeom>
            <a:ln w="10080">
              <a:solidFill>
                <a:srgbClr val="40404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2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Инсульт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3"/>
          <a:stretch/>
        </p:blipFill>
        <p:spPr>
          <a:xfrm>
            <a:off x="1187280" y="836640"/>
            <a:ext cx="2835360" cy="39402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4"/>
          <a:stretch/>
        </p:blipFill>
        <p:spPr>
          <a:xfrm>
            <a:off x="4859280" y="773280"/>
            <a:ext cx="2925720" cy="40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2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Инсульт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06" name="AutoShape 3"/>
          <p:cNvSpPr/>
          <p:nvPr/>
        </p:nvSpPr>
        <p:spPr>
          <a:xfrm>
            <a:off x="2627280" y="915840"/>
            <a:ext cx="4281480" cy="105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Инсульт может привести к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2627280" y="2139840"/>
            <a:ext cx="457200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коме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параличам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арушениям интеллекта или памяти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смерти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1" descr="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51674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2"/>
          <p:cNvSpPr/>
          <p:nvPr/>
        </p:nvSpPr>
        <p:spPr>
          <a:xfrm>
            <a:off x="452520" y="1131840"/>
            <a:ext cx="38163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арушение 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мозгового кровообращения или гибель нервных клеток из-за сдавливания может произойти в результате заболеваний, связанных с </a:t>
            </a: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опухолями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3"/>
          <a:stretch/>
        </p:blipFill>
        <p:spPr>
          <a:xfrm>
            <a:off x="4721400" y="0"/>
            <a:ext cx="4422600" cy="593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2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Опухоль головного мозга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13" name="AutoShape 3"/>
          <p:cNvSpPr/>
          <p:nvPr/>
        </p:nvSpPr>
        <p:spPr>
          <a:xfrm>
            <a:off x="2627280" y="915840"/>
            <a:ext cx="4281480" cy="105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едполагаемые причины возникновения опухолей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2627280" y="2139840"/>
            <a:ext cx="4572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воздействие винилхлорида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воздействие аспартама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воздействие электромагнитных полей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"/>
          <p:cNvPicPr/>
          <p:nvPr/>
        </p:nvPicPr>
        <p:blipFill>
          <a:blip r:embed="rId3"/>
          <a:stretch/>
        </p:blipFill>
        <p:spPr>
          <a:xfrm>
            <a:off x="1440" y="0"/>
            <a:ext cx="9145800" cy="6859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"/>
          <p:cNvPicPr/>
          <p:nvPr/>
        </p:nvPicPr>
        <p:blipFill>
          <a:blip r:embed="rId3"/>
          <a:stretch/>
        </p:blipFill>
        <p:spPr>
          <a:xfrm>
            <a:off x="0" y="-380880"/>
            <a:ext cx="9180360" cy="612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"/>
          <p:cNvPicPr/>
          <p:nvPr/>
        </p:nvPicPr>
        <p:blipFill>
          <a:blip r:embed="rId3"/>
          <a:stretch/>
        </p:blipFill>
        <p:spPr>
          <a:xfrm>
            <a:off x="-36360" y="-853920"/>
            <a:ext cx="9180360" cy="612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" descr=""/>
          <p:cNvPicPr/>
          <p:nvPr/>
        </p:nvPicPr>
        <p:blipFill>
          <a:blip r:embed="rId1"/>
          <a:stretch/>
        </p:blipFill>
        <p:spPr>
          <a:xfrm>
            <a:off x="1353960" y="141120"/>
            <a:ext cx="650268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"/>
          <p:cNvPicPr/>
          <p:nvPr/>
        </p:nvPicPr>
        <p:blipFill>
          <a:blip r:embed="rId3"/>
          <a:stretch/>
        </p:blipFill>
        <p:spPr>
          <a:xfrm>
            <a:off x="-25560" y="-36360"/>
            <a:ext cx="9169560" cy="609732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3"/>
          <p:cNvSpPr/>
          <p:nvPr/>
        </p:nvSpPr>
        <p:spPr>
          <a:xfrm>
            <a:off x="539640" y="555480"/>
            <a:ext cx="457200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Лёгкое сотрясение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головного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мозга может проявляться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сонливостью, вялостью и тошнотой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5" name="AutoShape 2"/>
          <p:cNvSpPr/>
          <p:nvPr/>
        </p:nvSpPr>
        <p:spPr>
          <a:xfrm>
            <a:off x="2709720" y="195120"/>
            <a:ext cx="4281480" cy="1059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изнаки сотрясения мозга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2709720" y="1419120"/>
            <a:ext cx="457200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потеря сознания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рвота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ретроградная амнезия </a:t>
            </a:r>
            <a:r>
              <a:rPr b="0" i="1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(когда человек не может вспомнить события, предшествующие травме)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2"/>
          <p:cNvSpPr/>
          <p:nvPr/>
        </p:nvSpPr>
        <p:spPr>
          <a:xfrm>
            <a:off x="395280" y="771480"/>
            <a:ext cx="3529080" cy="35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При сотрясении головного мозга или его ушибе в первую очередь необходимо: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уложить на кровать или кушетку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приложить на лоб тряпочку, смоченную холодной водой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емедленно доставить пострадавшего в больницу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3"/>
          <a:stretch/>
        </p:blipFill>
        <p:spPr>
          <a:xfrm>
            <a:off x="4211640" y="0"/>
            <a:ext cx="771516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" descr=""/>
          <p:cNvPicPr/>
          <p:nvPr/>
        </p:nvPicPr>
        <p:blipFill>
          <a:blip r:embed="rId3"/>
          <a:stretch/>
        </p:blipFill>
        <p:spPr>
          <a:xfrm>
            <a:off x="1763640" y="771480"/>
            <a:ext cx="5045040" cy="4089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3"/>
          <p:cNvSpPr/>
          <p:nvPr/>
        </p:nvSpPr>
        <p:spPr>
          <a:xfrm>
            <a:off x="0" y="0"/>
            <a:ext cx="916164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Ушиб мозга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2"/>
          <p:cNvSpPr/>
          <p:nvPr/>
        </p:nvSpPr>
        <p:spPr>
          <a:xfrm>
            <a:off x="431640" y="1635120"/>
            <a:ext cx="4572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ервная система человека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это одна из самых важных систем организма, которая отвечает за действие и координацию всех систем и органов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35" name="Picture 3" descr=""/>
          <p:cNvPicPr/>
          <p:nvPr/>
        </p:nvPicPr>
        <p:blipFill>
          <a:blip r:embed="rId3"/>
          <a:stretch/>
        </p:blipFill>
        <p:spPr>
          <a:xfrm>
            <a:off x="5003640" y="184320"/>
            <a:ext cx="322920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"/>
          <p:cNvPicPr/>
          <p:nvPr/>
        </p:nvPicPr>
        <p:blipFill>
          <a:blip r:embed="rId3"/>
          <a:stretch/>
        </p:blipFill>
        <p:spPr>
          <a:xfrm>
            <a:off x="0" y="-165240"/>
            <a:ext cx="9144000" cy="6072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"/>
          <p:cNvPicPr/>
          <p:nvPr/>
        </p:nvPicPr>
        <p:blipFill>
          <a:blip r:embed="rId3"/>
          <a:stretch/>
        </p:blipFill>
        <p:spPr>
          <a:xfrm>
            <a:off x="-7920" y="-401760"/>
            <a:ext cx="9151920" cy="6100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"/>
          <p:cNvPicPr/>
          <p:nvPr/>
        </p:nvPicPr>
        <p:blipFill>
          <a:blip r:embed="rId3"/>
          <a:stretch/>
        </p:blipFill>
        <p:spPr>
          <a:xfrm>
            <a:off x="0" y="-45252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"/>
          <p:cNvSpPr/>
          <p:nvPr/>
        </p:nvSpPr>
        <p:spPr>
          <a:xfrm>
            <a:off x="-324000" y="123840"/>
            <a:ext cx="5904000" cy="237636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900000" y="411120"/>
            <a:ext cx="4572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Профилактика заболеваний нервной системы должна занимать не последнее место в жизни каждого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2"/>
          <p:cNvSpPr/>
          <p:nvPr/>
        </p:nvSpPr>
        <p:spPr>
          <a:xfrm>
            <a:off x="2625840" y="361800"/>
            <a:ext cx="4279680" cy="105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офилактика заболеваний нервной системы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2611440" y="1527120"/>
            <a:ext cx="45720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правильное питание и здоровый образ жизни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отказ от вредных привычек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использование необходимых средств защиты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своевременное лечение на ранних стадиях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2"/>
          <p:cNvGrpSpPr/>
          <p:nvPr/>
        </p:nvGrpSpPr>
        <p:grpSpPr>
          <a:xfrm>
            <a:off x="573120" y="1893960"/>
            <a:ext cx="3182760" cy="1828800"/>
            <a:chOff x="573120" y="1893960"/>
            <a:chExt cx="3182760" cy="1828800"/>
          </a:xfrm>
        </p:grpSpPr>
        <p:sp>
          <p:nvSpPr>
            <p:cNvPr id="416" name="Line 3"/>
            <p:cNvSpPr/>
            <p:nvPr/>
          </p:nvSpPr>
          <p:spPr>
            <a:xfrm flipH="1">
              <a:off x="2303280" y="1893960"/>
              <a:ext cx="1292040" cy="97632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17" name="AutoShape 4"/>
            <p:cNvSpPr/>
            <p:nvPr/>
          </p:nvSpPr>
          <p:spPr>
            <a:xfrm>
              <a:off x="573120" y="2863800"/>
              <a:ext cx="3182760" cy="858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Врождённые 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18" name="Group 5"/>
          <p:cNvGrpSpPr/>
          <p:nvPr/>
        </p:nvGrpSpPr>
        <p:grpSpPr>
          <a:xfrm>
            <a:off x="5432400" y="1792440"/>
            <a:ext cx="3005280" cy="1871640"/>
            <a:chOff x="5432400" y="1792440"/>
            <a:chExt cx="3005280" cy="1871640"/>
          </a:xfrm>
        </p:grpSpPr>
        <p:sp>
          <p:nvSpPr>
            <p:cNvPr id="419" name="AutoShape 6"/>
            <p:cNvSpPr/>
            <p:nvPr/>
          </p:nvSpPr>
          <p:spPr>
            <a:xfrm>
              <a:off x="5432400" y="2803680"/>
              <a:ext cx="3005280" cy="860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Приобретённые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20" name="Line 7"/>
            <p:cNvSpPr/>
            <p:nvPr/>
          </p:nvSpPr>
          <p:spPr>
            <a:xfrm>
              <a:off x="5560920" y="1792440"/>
              <a:ext cx="1292400" cy="100476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421" name="AutoShape 8"/>
          <p:cNvSpPr/>
          <p:nvPr/>
        </p:nvSpPr>
        <p:spPr>
          <a:xfrm>
            <a:off x="2763720" y="1338120"/>
            <a:ext cx="3529080" cy="12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оражение нервной системы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3"/>
          <a:stretch/>
        </p:blipFill>
        <p:spPr>
          <a:xfrm>
            <a:off x="539640" y="339840"/>
            <a:ext cx="324036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4" name="Rectangle 3"/>
          <p:cNvSpPr/>
          <p:nvPr/>
        </p:nvSpPr>
        <p:spPr>
          <a:xfrm>
            <a:off x="687240" y="3286080"/>
            <a:ext cx="763272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5c8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4"/>
          <a:stretch/>
        </p:blipFill>
        <p:spPr>
          <a:xfrm>
            <a:off x="684360" y="3292560"/>
            <a:ext cx="1557360" cy="15573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5"/>
          <p:cNvSpPr/>
          <p:nvPr/>
        </p:nvSpPr>
        <p:spPr>
          <a:xfrm>
            <a:off x="2409840" y="3413160"/>
            <a:ext cx="574056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Segoe UI Semibold"/>
                <a:ea typeface="Times New Roman"/>
              </a:rPr>
              <a:t>Гидроцефалия </a:t>
            </a:r>
            <a:r>
              <a:rPr b="0" lang="ru-RU" sz="14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– 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Segoe UI"/>
              </a:rPr>
              <a:t>увеличение объёма мозга из-за нарушения оттока из него спинномозговой жидкости.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5"/>
          <a:stretch/>
        </p:blipFill>
        <p:spPr>
          <a:xfrm>
            <a:off x="4427640" y="268200"/>
            <a:ext cx="353376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"/>
          <p:cNvSpPr/>
          <p:nvPr/>
        </p:nvSpPr>
        <p:spPr>
          <a:xfrm>
            <a:off x="1042920" y="3363840"/>
            <a:ext cx="698508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кроцефал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едоразвитие мозга, когда его масса не достигает 1 кг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2"/>
          <a:stretch/>
        </p:blipFill>
        <p:spPr>
          <a:xfrm>
            <a:off x="2987640" y="627120"/>
            <a:ext cx="367200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33" name="Group 2"/>
          <p:cNvGrpSpPr/>
          <p:nvPr/>
        </p:nvGrpSpPr>
        <p:grpSpPr>
          <a:xfrm>
            <a:off x="880920" y="192240"/>
            <a:ext cx="2608200" cy="1439280"/>
            <a:chOff x="880920" y="192240"/>
            <a:chExt cx="2608200" cy="1439280"/>
          </a:xfrm>
        </p:grpSpPr>
        <p:sp>
          <p:nvSpPr>
            <p:cNvPr id="434" name="Line 3"/>
            <p:cNvSpPr/>
            <p:nvPr/>
          </p:nvSpPr>
          <p:spPr>
            <a:xfrm flipH="1" flipV="1">
              <a:off x="2267280" y="672480"/>
              <a:ext cx="1221840" cy="95904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35" name="AutoShape 4"/>
            <p:cNvSpPr/>
            <p:nvPr/>
          </p:nvSpPr>
          <p:spPr>
            <a:xfrm>
              <a:off x="880920" y="192240"/>
              <a:ext cx="2244960" cy="1084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Инфекционные заболевания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36" name="Group 5"/>
          <p:cNvGrpSpPr/>
          <p:nvPr/>
        </p:nvGrpSpPr>
        <p:grpSpPr>
          <a:xfrm>
            <a:off x="5219640" y="239760"/>
            <a:ext cx="2373480" cy="1535760"/>
            <a:chOff x="5219640" y="239760"/>
            <a:chExt cx="2373480" cy="1535760"/>
          </a:xfrm>
        </p:grpSpPr>
        <p:sp>
          <p:nvSpPr>
            <p:cNvPr id="437" name="Line 6"/>
            <p:cNvSpPr/>
            <p:nvPr/>
          </p:nvSpPr>
          <p:spPr>
            <a:xfrm flipV="1">
              <a:off x="5610240" y="673560"/>
              <a:ext cx="1074600" cy="110196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38" name="AutoShape 7"/>
            <p:cNvSpPr/>
            <p:nvPr/>
          </p:nvSpPr>
          <p:spPr>
            <a:xfrm>
              <a:off x="5219640" y="239760"/>
              <a:ext cx="2373480" cy="1038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Сотрясения 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головного мозга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39" name="Group 8"/>
          <p:cNvGrpSpPr/>
          <p:nvPr/>
        </p:nvGrpSpPr>
        <p:grpSpPr>
          <a:xfrm>
            <a:off x="1006560" y="3076560"/>
            <a:ext cx="2407680" cy="1724040"/>
            <a:chOff x="1006560" y="3076560"/>
            <a:chExt cx="2407680" cy="1724040"/>
          </a:xfrm>
        </p:grpSpPr>
        <p:sp>
          <p:nvSpPr>
            <p:cNvPr id="440" name="Line 9"/>
            <p:cNvSpPr/>
            <p:nvPr/>
          </p:nvSpPr>
          <p:spPr>
            <a:xfrm flipH="1">
              <a:off x="2303280" y="3076560"/>
              <a:ext cx="1110960" cy="100980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41" name="AutoShape 10"/>
            <p:cNvSpPr/>
            <p:nvPr/>
          </p:nvSpPr>
          <p:spPr>
            <a:xfrm>
              <a:off x="1006560" y="3746520"/>
              <a:ext cx="2333520" cy="1054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Вредные привычки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42" name="Group 11"/>
          <p:cNvGrpSpPr/>
          <p:nvPr/>
        </p:nvGrpSpPr>
        <p:grpSpPr>
          <a:xfrm>
            <a:off x="5468760" y="3032280"/>
            <a:ext cx="2772000" cy="1676160"/>
            <a:chOff x="5468760" y="3032280"/>
            <a:chExt cx="2772000" cy="1676160"/>
          </a:xfrm>
        </p:grpSpPr>
        <p:sp>
          <p:nvSpPr>
            <p:cNvPr id="443" name="Line 12"/>
            <p:cNvSpPr/>
            <p:nvPr/>
          </p:nvSpPr>
          <p:spPr>
            <a:xfrm>
              <a:off x="5508720" y="3032280"/>
              <a:ext cx="1251000" cy="108252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44" name="AutoShape 13"/>
            <p:cNvSpPr/>
            <p:nvPr/>
          </p:nvSpPr>
          <p:spPr>
            <a:xfrm>
              <a:off x="5468760" y="3774960"/>
              <a:ext cx="2772000" cy="933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Разрывы периферических нервов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445" name="AutoShape 14"/>
          <p:cNvSpPr/>
          <p:nvPr/>
        </p:nvSpPr>
        <p:spPr>
          <a:xfrm>
            <a:off x="2535120" y="1585800"/>
            <a:ext cx="3989520" cy="1708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иобретённые заболевания центральной нервной системы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"/>
          <p:cNvPicPr/>
          <p:nvPr/>
        </p:nvPicPr>
        <p:blipFill>
          <a:blip r:embed="rId3"/>
          <a:stretch/>
        </p:blipFill>
        <p:spPr>
          <a:xfrm>
            <a:off x="0" y="-857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2"/>
          <p:cNvSpPr/>
          <p:nvPr/>
        </p:nvSpPr>
        <p:spPr>
          <a:xfrm>
            <a:off x="531720" y="1380960"/>
            <a:ext cx="457200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UI"/>
                <a:ea typeface="Times New Roman"/>
              </a:rPr>
              <a:t>К инфекционным</a:t>
            </a:r>
            <a:endParaRPr b="0" lang="en-US" sz="2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болезням относятся менингит, энцефалит, корь, ветрянка, свинка, герпес, краснуха, бешенство, полиомиелит и многие другие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3"/>
          <a:stretch/>
        </p:blipFill>
        <p:spPr>
          <a:xfrm>
            <a:off x="5602320" y="0"/>
            <a:ext cx="3541680" cy="6296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7:01:35Z</dcterms:created>
  <dc:creator>Пользователь</dc:creator>
  <dc:description/>
  <dc:language>en-US</dc:language>
  <cp:lastModifiedBy>Роман</cp:lastModifiedBy>
  <dcterms:modified xsi:type="dcterms:W3CDTF">2023-10-31T08:30:37Z</dcterms:modified>
  <cp:revision>1250</cp:revision>
  <dc:subject/>
  <dc:title>Презентация PowerPoint</dc:title>
</cp:coreProperties>
</file>