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4.jpeg" ContentType="image/jpeg"/>
  <Override PartName="/ppt/media/image39.jpeg" ContentType="image/jpeg"/>
  <Override PartName="/ppt/media/image8.png" ContentType="image/png"/>
  <Override PartName="/ppt/media/image31.png" ContentType="image/png"/>
  <Override PartName="/ppt/media/image6.png" ContentType="image/png"/>
  <Override PartName="/ppt/media/image36.jpeg" ContentType="image/jpeg"/>
  <Override PartName="/ppt/media/image38.jpeg" ContentType="image/jpeg"/>
  <Override PartName="/ppt/media/image44.jpeg" ContentType="image/jpeg"/>
  <Override PartName="/ppt/media/image41.png" ContentType="image/png"/>
  <Override PartName="/ppt/media/image42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dt" idx="19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685440" y="1143000"/>
            <a:ext cx="5483160" cy="308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body"/>
          </p:nvPr>
        </p:nvSpPr>
        <p:spPr>
          <a:xfrm>
            <a:off x="685440" y="4400640"/>
            <a:ext cx="548316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0"/>
          </p:nvPr>
        </p:nvSpPr>
        <p:spPr>
          <a:xfrm>
            <a:off x="3884760" y="8685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9C963B-2C1E-49D1-93C2-E5F62C552B1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78C159-C27F-4BC9-B770-F6F7B9C420B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23EDAA-5393-40AE-A3BE-80409641F0C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B514B5-FF70-4F55-908C-C6A23BDBB9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BB0736-E736-4D7A-ACA5-9ABEAD3E5CE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D295FC-F9F6-406A-850E-8323C8CD488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F95F66-2B68-44DC-B07C-7DC93C99660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E6DEF0-D235-44BE-8F59-CF64535B4B2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CE7EB9-CD8D-40BF-92C9-18E02FACEF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CFBDFF-53CE-47E4-921C-61CC839E360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9652E5-755A-432B-9E3C-D7657DB826C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308AA1-6B13-49ED-A7C1-5E36EE527D2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CEA4F9-73D6-40C0-B3F4-189C3F25E24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8A6B67-6D3E-41D6-BB86-EC1BC03DB83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534E77-5831-4E30-8251-29CBF597498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C7492F-2CDF-4B9B-8083-6101925C1D9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C5D4EB-2183-462B-9CD5-84399161224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748AFB-8493-4E17-9DAE-07E6084E23F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5A09E6-83EE-4B48-9187-D55717B571D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0E41FF-0F87-46E1-9F2C-63788BDE724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C0D53E-8A43-4501-B205-1D3B888F48D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DDFC9C-7481-4758-8576-B189D4CC83E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CA147F-6CAD-4C42-AD06-A2EB1B922AC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BBE735-AE37-4A0F-A0EE-2A9EB96672C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D8E0C9-BE85-4931-A2DD-53E16410123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1720" cy="30844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BA1E51-43C5-47CC-94EC-044FBC0FE06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6667C1-CB87-416E-BBDC-6C1E4BE35D0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137453-CDD5-45DB-BA96-6BDDA85690E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46A418-433A-4AC0-BFA6-4D4EC755DB3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C97FBE-5B87-4DDC-9330-1E1615626AC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ED1AD5-44D8-4CF4-9845-36BF87039BA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9F4986-B74B-4879-A73B-77DB280B552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985B58-6206-44E8-AD1D-7DDD12478AE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AD499B-C56F-44FA-97E3-4750B5708C1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1CD378-2593-4D83-9B6C-DBDCEF7D35E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EC61C8-7AB4-4C48-AEC0-ED454B1A1C3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C27979-DA1F-413F-85C8-EBA39A57B24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FEB647-E61E-4CDF-B583-9D39066E5D9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3189EC-2371-4765-AEA6-C0D670D20A3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749F47-58B3-44E1-B09F-B31A3CE78DE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183AB-B2EF-4C7E-A034-99EE3E0F70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E7F8-6E16-48E4-8417-8AF93C11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43B8-13EF-492B-BBE4-9A58062D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25F46-4001-4355-827E-8D4D3E72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ECEAB-0BAE-487D-B97C-8E111E6E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400A8-7F5C-4D19-9195-15F2697C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9CBA-3A8E-4199-8CAC-C5A8093E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2A2FA-6816-4326-97BD-45AA5355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CD727-5043-4A05-9F51-8928ED27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03D7C-ABCC-4356-B3E6-DD55A382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F3CD3-65CF-4D6E-9530-E82ABF9231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548E-CA7D-438F-B1A2-23D2B1FF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1B68-FD20-4DD8-B7EA-4AD578261F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86555-DC70-4B4A-A579-B60F9E05B9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AC127-C3E8-4442-B43A-6D3734CB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C1F46-D740-47E8-9571-8C8C382B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E7C19-BC89-4F52-9990-0DA3D25C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BA0C9-21D8-47CC-BF88-E72CFB43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1714E-3D5E-43B4-9B8D-80747CE9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17837-AC32-4687-84F8-FFEBBF99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21A48-DD5C-4A52-8EE5-97403FAF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BDEC5-D584-4DF0-B6EB-FE63C92E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EA6CD-ACFD-4723-8397-67190E6C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86734-28A6-4D35-AD63-D3EA51F6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93EFC-F1F5-4464-93B5-527FD506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32A6E-293A-451B-9479-F29D6D60B2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8150-DF32-4CA0-81FA-A23C5E7AC8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74C8-174C-469C-94FA-EE6725D6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D3CB-53A8-4E45-826B-94141DCA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AD92-A422-4707-A3A7-8BAC4368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0930-47E6-42AC-8057-08C73C85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FC75-23BA-4A61-8FBA-9941396E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B39F-54A8-4215-AE84-060F9BD5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E02C-7031-4970-97AE-5EA311C2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76B4-8D66-45BF-BAEE-547BF881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59C2-9D85-43DE-84CE-C29372BC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4BE1-0F39-4284-B77A-5809BA95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AADB-945F-4DF2-9D09-0D09B516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A1D2-B647-4502-9E4B-48709B8B19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007A9-E6DF-4530-A3C1-4C8C5D2EE8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EA2B5-8078-4219-B277-958F4395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5D3E4-E7E4-4AB8-BE52-58129C4C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DFB3-7804-4D6C-886F-41FA9004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360F4-2F49-4A90-9B66-F49692B1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A5B55-4CD0-43D4-B1B7-04A22E18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FFCC0-7467-4E48-B759-9722A1AD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B4156-8BF4-4DF8-BE3D-215BC45C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AF3F4-E882-4005-8461-99F278CB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233E5-3A1A-4D28-9BD5-9744AF3E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2BEEB-DD53-4A55-8318-30B8AAC1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E0114-5083-4C3D-A694-6519B40D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5D568-DE16-45D3-8541-6AA38B378E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2E1A49-6357-446D-B530-BF2573E5A8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7BB9-66D2-4FEC-ADAD-A70DBEC3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F7F1C1-E47F-477A-9B2C-66635C7F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91EC1-9170-470E-B013-F47AA96D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4A504-E647-4491-9F4F-557BF1FD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B9394-90B2-45E5-A846-E68D7C7D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A6828-5A4A-4FAE-BBF4-C1428AE5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3F0814-AA71-4471-BB61-6AF9A446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50861B-D274-42B5-BCA0-2D7FB43B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69090-9FA9-40D6-A853-9F1DF1B0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EFE6D9-D6AD-4737-B596-FDA6CA91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2B9FE-8F98-40D0-98FE-190795CE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D0F2E-EFBA-472E-B57F-6E997944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D1D1DA-51E2-4350-A94C-A165969A3A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2EE7C-C806-4B5C-9C00-66780ABA63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C9D10-7723-47CE-AB7F-3D820C1D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815E0-F263-4FB3-B9E5-B1BA9FEF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685C9-0AF6-4D81-BE21-31B11BD6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1462-5A38-4EDD-82CC-3A52345A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BEB5A-147F-482C-88AA-94743109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23077-3A49-4F6A-B3F1-58E6264B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D568-077B-4762-8770-06D90060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25A7-71B2-46D9-83D6-EA45A3C3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07C0-1695-4BA4-86F6-664E93F4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C633E-D487-495C-A402-265D47C4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84D63-B533-4F2A-B936-315339D9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CD530-00E2-486A-862D-A379328E31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34C75-531A-42F5-997A-22BD980C16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6F090-39AD-4F47-9A5B-5D061EE9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4FAA6-BCED-4C84-9B90-2D33D45C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28F75-A26B-4BCE-8335-972D0073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AFF81-478F-43D1-85E9-3CA97A9B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33830-7621-4736-B1D5-77E39536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C34DF-5A33-48B3-8C2A-FC25FD3B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A646-A99F-4596-A6DD-743DAAC8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EC970-F124-4857-8329-EE3A618C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47D3A-3FE0-415C-B897-D507F4A6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70A7D-A143-4D24-A4A3-2DC7B681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EC1DF-AD21-4835-A08D-B8617384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617D6-C11F-45BB-8BE6-60BE6D0FAB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4BA9FF-B2CA-4C1C-8289-2AB94EEB6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54502F-FC34-4216-9EF6-EE3F536C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BFDC16-6DC8-479D-9B40-5A6923EC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B0F9CF-E778-4E32-9B8B-9E02113F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198943-7D12-40E9-8D98-BF8607E6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2317-04E4-43E0-B4A6-E3F445B4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1339F3-5DF8-487F-A427-BD6A9E47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776C1F-7B51-49BA-961A-FA97FE5D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721FBD-DD81-4416-8D8E-54E970CD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B84560-7239-447F-B69D-4ED55D9D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6AC130-1FA9-40C4-A59D-BD41C994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0D6CD3-3989-4F17-890D-DE4EDE73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21C60C-B28D-4F7D-8850-0D1EC9DC4B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A78DE-DCC9-4AA4-9004-F9C258847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9F1D2-60F7-4BA7-8E7A-F504D1AB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8F081-27D4-4D64-B5CA-69296BF7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0F7121-D373-4424-B9E5-321BF3A87DCF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06520" y="781200"/>
            <a:ext cx="8640720" cy="20520"/>
            <a:chOff x="506520" y="781200"/>
            <a:chExt cx="8640720" cy="205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06520" y="3998880"/>
            <a:ext cx="8640720" cy="20520"/>
            <a:chOff x="506520" y="3998880"/>
            <a:chExt cx="8640720" cy="2052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99888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401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4855680"/>
            <a:ext cx="755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2524AB-64C2-4895-B227-F8225AB0EA9E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06520" y="781200"/>
            <a:ext cx="8640720" cy="20520"/>
            <a:chOff x="506520" y="781200"/>
            <a:chExt cx="8640720" cy="205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57240"/>
            <a:ext cx="28958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4855680"/>
            <a:ext cx="755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A368FD-B3F4-4841-AF6A-0F2B314D1E45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06520" y="2571840"/>
            <a:ext cx="8640720" cy="21960"/>
            <a:chOff x="506520" y="2571840"/>
            <a:chExt cx="8640720" cy="2196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2571840"/>
              <a:ext cx="864072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EA6322-7D0A-45DB-9DEB-C0B3CC8BDB94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06520" y="4505400"/>
            <a:ext cx="8640720" cy="20520"/>
            <a:chOff x="506520" y="4505400"/>
            <a:chExt cx="8640720" cy="2052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45054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4514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4857480"/>
            <a:ext cx="75888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E02A8C-4861-4EDA-BF2C-CD04C54E1A66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3F510E-C370-477A-870F-01DD789C0C5A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06520" y="4376880"/>
            <a:ext cx="8640720" cy="20520"/>
            <a:chOff x="506520" y="4376880"/>
            <a:chExt cx="8640720" cy="2052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437688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438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C1B7FB-8AEE-4E1F-AB82-CC67153F026C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3D103A-32DD-440A-8507-08A42BA6B92D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456429-6539-4650-A945-9BB4F259286D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2"/>
          <a:stretch/>
        </p:blipFill>
        <p:spPr>
          <a:xfrm>
            <a:off x="438120" y="1554120"/>
            <a:ext cx="7950240" cy="14335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2"/>
          <p:cNvSpPr/>
          <p:nvPr/>
        </p:nvSpPr>
        <p:spPr>
          <a:xfrm>
            <a:off x="1911240" y="3525840"/>
            <a:ext cx="5648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2"/>
          <p:cNvSpPr/>
          <p:nvPr/>
        </p:nvSpPr>
        <p:spPr>
          <a:xfrm>
            <a:off x="0" y="0"/>
            <a:ext cx="4211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395280" y="177948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Вредные привычки </a:t>
            </a: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причина заболеваний центральной нервной системы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3"/>
          <a:stretch/>
        </p:blipFill>
        <p:spPr>
          <a:xfrm>
            <a:off x="4211640" y="0"/>
            <a:ext cx="514332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"/>
          <p:cNvPicPr/>
          <p:nvPr/>
        </p:nvPicPr>
        <p:blipFill>
          <a:blip r:embed="rId3"/>
          <a:stretch/>
        </p:blipFill>
        <p:spPr>
          <a:xfrm>
            <a:off x="-14400" y="-839880"/>
            <a:ext cx="9158400" cy="610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3"/>
          <a:stretch/>
        </p:blipFill>
        <p:spPr>
          <a:xfrm>
            <a:off x="-36360" y="-358920"/>
            <a:ext cx="9180360" cy="553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2"/>
          <p:cNvSpPr/>
          <p:nvPr/>
        </p:nvSpPr>
        <p:spPr>
          <a:xfrm>
            <a:off x="468360" y="1492200"/>
            <a:ext cx="3887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 действие никотина на центральную нервную систему выражается вначале в её возбуждении, а затем в угнетении. 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676760" y="4280040"/>
            <a:ext cx="408456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Segoe UI"/>
              </a:rPr>
              <a:t>Никотин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3"/>
          <a:stretch/>
        </p:blipFill>
        <p:spPr>
          <a:xfrm>
            <a:off x="4676760" y="195120"/>
            <a:ext cx="4084560" cy="408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3"/>
          <a:stretch/>
        </p:blipFill>
        <p:spPr>
          <a:xfrm>
            <a:off x="4000680" y="-144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3"/>
          <p:cNvSpPr/>
          <p:nvPr/>
        </p:nvSpPr>
        <p:spPr>
          <a:xfrm>
            <a:off x="-66600" y="-11160"/>
            <a:ext cx="4067280" cy="5143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39640" y="1276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egoe UI"/>
                <a:ea typeface="Times New Roman"/>
              </a:rPr>
              <a:t>Курящие люди становятся раздражительными и легковозбудимыми, у них наруша­ется сон, аппетит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"/>
          <p:cNvPicPr/>
          <p:nvPr/>
        </p:nvPicPr>
        <p:blipFill>
          <a:blip r:embed="rId3"/>
          <a:stretch/>
        </p:blipFill>
        <p:spPr>
          <a:xfrm>
            <a:off x="-181080" y="-25560"/>
            <a:ext cx="10542600" cy="527220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-181080" y="771480"/>
            <a:ext cx="5545080" cy="280836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395280" y="120348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редко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возникают расстройства памяти, головные боли, бессонница, дрожание рук, снижается работоспособность, ухудшается настроение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4572000" y="1119240"/>
            <a:ext cx="3975120" cy="40323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4"/>
          <a:stretch/>
        </p:blipFill>
        <p:spPr>
          <a:xfrm>
            <a:off x="1173240" y="2643120"/>
            <a:ext cx="2555640" cy="194940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4"/>
          <p:cNvGrpSpPr/>
          <p:nvPr/>
        </p:nvGrpSpPr>
        <p:grpSpPr>
          <a:xfrm>
            <a:off x="1303200" y="1119240"/>
            <a:ext cx="4849920" cy="1344600"/>
            <a:chOff x="1303200" y="1119240"/>
            <a:chExt cx="4849920" cy="1344600"/>
          </a:xfrm>
        </p:grpSpPr>
        <p:pic>
          <p:nvPicPr>
            <p:cNvPr id="475" name="Picture 5" descr=""/>
            <p:cNvPicPr/>
            <p:nvPr/>
          </p:nvPicPr>
          <p:blipFill>
            <a:blip r:embed="rId5"/>
            <a:stretch/>
          </p:blipFill>
          <p:spPr>
            <a:xfrm>
              <a:off x="1303200" y="1119240"/>
              <a:ext cx="196236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6"/>
            <p:cNvSpPr/>
            <p:nvPr/>
          </p:nvSpPr>
          <p:spPr>
            <a:xfrm>
              <a:off x="3132000" y="1724040"/>
              <a:ext cx="30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этанол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77" name="Line 7"/>
            <p:cNvSpPr/>
            <p:nvPr/>
          </p:nvSpPr>
          <p:spPr>
            <a:xfrm flipH="1">
              <a:off x="2414520" y="2160720"/>
              <a:ext cx="1005120" cy="10296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2"/>
          <p:cNvSpPr/>
          <p:nvPr/>
        </p:nvSpPr>
        <p:spPr>
          <a:xfrm>
            <a:off x="2600280" y="771480"/>
            <a:ext cx="39434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Утрачивается разумный контроль над поступками, снижается критическое отношение к себе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Механизм воздействия алкоголя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1" name="AutoShape 4"/>
          <p:cNvSpPr/>
          <p:nvPr/>
        </p:nvSpPr>
        <p:spPr>
          <a:xfrm>
            <a:off x="4427640" y="2257560"/>
            <a:ext cx="431640" cy="64764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2673360" y="3076560"/>
            <a:ext cx="39416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UI"/>
                <a:ea typeface="Segoe UI"/>
              </a:rPr>
              <a:t>Угнетение тормозных процессов в коре головного мозга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"/>
          <p:cNvPicPr/>
          <p:nvPr/>
        </p:nvPicPr>
        <p:blipFill>
          <a:blip r:embed="rId3"/>
          <a:stretch/>
        </p:blipFill>
        <p:spPr>
          <a:xfrm>
            <a:off x="1440" y="-812880"/>
            <a:ext cx="9142560" cy="608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3"/>
          <a:stretch/>
        </p:blipFill>
        <p:spPr>
          <a:xfrm>
            <a:off x="-20520" y="-523800"/>
            <a:ext cx="9180360" cy="612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3"/>
          <a:stretch/>
        </p:blipFill>
        <p:spPr>
          <a:xfrm>
            <a:off x="1692360" y="385920"/>
            <a:ext cx="1820880" cy="4371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/>
          <a:stretch/>
        </p:blipFill>
        <p:spPr>
          <a:xfrm>
            <a:off x="4356000" y="771480"/>
            <a:ext cx="3627360" cy="350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3"/>
          <a:stretch/>
        </p:blipFill>
        <p:spPr>
          <a:xfrm>
            <a:off x="0" y="-6681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" descr=""/>
          <p:cNvPicPr/>
          <p:nvPr/>
        </p:nvPicPr>
        <p:blipFill>
          <a:blip r:embed="rId3"/>
          <a:stretch/>
        </p:blipFill>
        <p:spPr>
          <a:xfrm>
            <a:off x="0" y="-857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"/>
          <p:cNvPicPr/>
          <p:nvPr/>
        </p:nvPicPr>
        <p:blipFill>
          <a:blip r:embed="rId3"/>
          <a:stretch/>
        </p:blipFill>
        <p:spPr>
          <a:xfrm>
            <a:off x="2820960" y="1241280"/>
            <a:ext cx="3311640" cy="3567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4"/>
          <a:stretch/>
        </p:blipFill>
        <p:spPr>
          <a:xfrm>
            <a:off x="3397320" y="268200"/>
            <a:ext cx="2482920" cy="194796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4"/>
          <p:cNvGrpSpPr/>
          <p:nvPr/>
        </p:nvGrpSpPr>
        <p:grpSpPr>
          <a:xfrm>
            <a:off x="5052600" y="538200"/>
            <a:ext cx="3890880" cy="1166760"/>
            <a:chOff x="5052600" y="538200"/>
            <a:chExt cx="3890880" cy="1166760"/>
          </a:xfrm>
        </p:grpSpPr>
        <p:sp>
          <p:nvSpPr>
            <p:cNvPr id="495" name="Text Box 5"/>
            <p:cNvSpPr/>
            <p:nvPr/>
          </p:nvSpPr>
          <p:spPr>
            <a:xfrm>
              <a:off x="5919840" y="538200"/>
              <a:ext cx="30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питательные вещества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96" name="Line 6"/>
            <p:cNvSpPr/>
            <p:nvPr/>
          </p:nvSpPr>
          <p:spPr>
            <a:xfrm flipH="1">
              <a:off x="5052600" y="1012680"/>
              <a:ext cx="2151720" cy="69228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97" name="Group 7"/>
          <p:cNvGrpSpPr/>
          <p:nvPr/>
        </p:nvGrpSpPr>
        <p:grpSpPr>
          <a:xfrm>
            <a:off x="1138320" y="914400"/>
            <a:ext cx="3020760" cy="381960"/>
            <a:chOff x="1138320" y="914400"/>
            <a:chExt cx="3020760" cy="381960"/>
          </a:xfrm>
        </p:grpSpPr>
        <p:sp>
          <p:nvSpPr>
            <p:cNvPr id="498" name="Text Box 8"/>
            <p:cNvSpPr/>
            <p:nvPr/>
          </p:nvSpPr>
          <p:spPr>
            <a:xfrm>
              <a:off x="1138320" y="914400"/>
              <a:ext cx="30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кислород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1676520" y="1204560"/>
              <a:ext cx="2130480" cy="9180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Инсульт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3"/>
          <a:stretch/>
        </p:blipFill>
        <p:spPr>
          <a:xfrm>
            <a:off x="1187280" y="836640"/>
            <a:ext cx="2835360" cy="3940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4"/>
          <a:stretch/>
        </p:blipFill>
        <p:spPr>
          <a:xfrm>
            <a:off x="4859280" y="773280"/>
            <a:ext cx="292572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Инсульт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06" name="AutoShape 3"/>
          <p:cNvSpPr/>
          <p:nvPr/>
        </p:nvSpPr>
        <p:spPr>
          <a:xfrm>
            <a:off x="2627280" y="915840"/>
            <a:ext cx="42814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Инсульт может привести к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2627280" y="2139840"/>
            <a:ext cx="4572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коме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параличам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арушениям интеллекта или памяти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смерти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1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51674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"/>
          <p:cNvSpPr/>
          <p:nvPr/>
        </p:nvSpPr>
        <p:spPr>
          <a:xfrm>
            <a:off x="452520" y="1131840"/>
            <a:ext cx="38163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арушение 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мозгового кровообращения или гибель нервных клеток из-за сдавливания может произойти в результате заболеваний, связанных с </a:t>
            </a: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опухолями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3"/>
          <a:stretch/>
        </p:blipFill>
        <p:spPr>
          <a:xfrm>
            <a:off x="4721400" y="0"/>
            <a:ext cx="4422600" cy="593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Опухоль головного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2627280" y="915840"/>
            <a:ext cx="42814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едполагаемые причины возникновения опухолей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2627280" y="2139840"/>
            <a:ext cx="4572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оздействие винилхлорида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оздействие аспартама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воздействие электромагнитных полей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"/>
          <p:cNvPicPr/>
          <p:nvPr/>
        </p:nvPicPr>
        <p:blipFill>
          <a:blip r:embed="rId3"/>
          <a:stretch/>
        </p:blipFill>
        <p:spPr>
          <a:xfrm>
            <a:off x="144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"/>
          <p:cNvPicPr/>
          <p:nvPr/>
        </p:nvPicPr>
        <p:blipFill>
          <a:blip r:embed="rId3"/>
          <a:stretch/>
        </p:blipFill>
        <p:spPr>
          <a:xfrm>
            <a:off x="0" y="-380880"/>
            <a:ext cx="9180360" cy="612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3"/>
          <a:stretch/>
        </p:blipFill>
        <p:spPr>
          <a:xfrm>
            <a:off x="-36360" y="-853920"/>
            <a:ext cx="9180360" cy="612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1"/>
          <a:stretch/>
        </p:blipFill>
        <p:spPr>
          <a:xfrm>
            <a:off x="1353960" y="141120"/>
            <a:ext cx="650268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3"/>
          <a:stretch/>
        </p:blipFill>
        <p:spPr>
          <a:xfrm>
            <a:off x="-25560" y="-36360"/>
            <a:ext cx="9169560" cy="60973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539640" y="555480"/>
            <a:ext cx="45720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Лёгкое сотрясение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головного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мозга может проявляться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сонливостью, вялостью и тошнотой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2"/>
          <p:cNvSpPr/>
          <p:nvPr/>
        </p:nvSpPr>
        <p:spPr>
          <a:xfrm>
            <a:off x="2709720" y="195120"/>
            <a:ext cx="4281480" cy="105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изнаки сотрясения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709720" y="1419120"/>
            <a:ext cx="457200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отеря сознания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рвота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ретроградная амнезия </a:t>
            </a:r>
            <a:r>
              <a:rPr b="0" i="1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(когда человек не может вспомнить события, предшествующие травме)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2"/>
          <p:cNvSpPr/>
          <p:nvPr/>
        </p:nvSpPr>
        <p:spPr>
          <a:xfrm>
            <a:off x="395280" y="771480"/>
            <a:ext cx="352908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и сотрясении головного мозга или его ушибе в первую очередь необходимо: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уложить на кровать или кушетку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иложить на лоб тряпочку, смоченную холодной водой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медленно доставить пострадавшего в больницу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3"/>
          <a:stretch/>
        </p:blipFill>
        <p:spPr>
          <a:xfrm>
            <a:off x="4211640" y="0"/>
            <a:ext cx="771516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"/>
          <p:cNvPicPr/>
          <p:nvPr/>
        </p:nvPicPr>
        <p:blipFill>
          <a:blip r:embed="rId3"/>
          <a:stretch/>
        </p:blipFill>
        <p:spPr>
          <a:xfrm>
            <a:off x="1763640" y="771480"/>
            <a:ext cx="5045040" cy="4089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3"/>
          <p:cNvSpPr/>
          <p:nvPr/>
        </p:nvSpPr>
        <p:spPr>
          <a:xfrm>
            <a:off x="0" y="0"/>
            <a:ext cx="916164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Ушиб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2"/>
          <p:cNvSpPr/>
          <p:nvPr/>
        </p:nvSpPr>
        <p:spPr>
          <a:xfrm>
            <a:off x="431640" y="1635120"/>
            <a:ext cx="4572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рвная система человека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это одна из самых важных систем организма, которая отвечает за действие и координацию всех систем и органов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3"/>
          <a:stretch/>
        </p:blipFill>
        <p:spPr>
          <a:xfrm>
            <a:off x="5003640" y="184320"/>
            <a:ext cx="322920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"/>
          <p:cNvPicPr/>
          <p:nvPr/>
        </p:nvPicPr>
        <p:blipFill>
          <a:blip r:embed="rId3"/>
          <a:stretch/>
        </p:blipFill>
        <p:spPr>
          <a:xfrm>
            <a:off x="0" y="-1652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"/>
          <p:cNvPicPr/>
          <p:nvPr/>
        </p:nvPicPr>
        <p:blipFill>
          <a:blip r:embed="rId3"/>
          <a:stretch/>
        </p:blipFill>
        <p:spPr>
          <a:xfrm>
            <a:off x="-7920" y="-401760"/>
            <a:ext cx="9151920" cy="610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"/>
          <p:cNvPicPr/>
          <p:nvPr/>
        </p:nvPicPr>
        <p:blipFill>
          <a:blip r:embed="rId3"/>
          <a:stretch/>
        </p:blipFill>
        <p:spPr>
          <a:xfrm>
            <a:off x="0" y="-45252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-324000" y="123840"/>
            <a:ext cx="5904000" cy="237636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900000" y="411120"/>
            <a:ext cx="4572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офилактика заболеваний нервной системы должна занимать не последнее место в жизни каждого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2"/>
          <p:cNvSpPr/>
          <p:nvPr/>
        </p:nvSpPr>
        <p:spPr>
          <a:xfrm>
            <a:off x="2625840" y="361800"/>
            <a:ext cx="42796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офилактика заболеваний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2611440" y="1527120"/>
            <a:ext cx="45720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правильное питание и здоровый образ жизни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отказ от вредных привычек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использование необходимых средств защиты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своевременное лечение на ранних стадиях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2"/>
          <p:cNvGrpSpPr/>
          <p:nvPr/>
        </p:nvGrpSpPr>
        <p:grpSpPr>
          <a:xfrm>
            <a:off x="573120" y="1893960"/>
            <a:ext cx="3182760" cy="1828800"/>
            <a:chOff x="573120" y="1893960"/>
            <a:chExt cx="3182760" cy="1828800"/>
          </a:xfrm>
        </p:grpSpPr>
        <p:sp>
          <p:nvSpPr>
            <p:cNvPr id="416" name="Line 3"/>
            <p:cNvSpPr/>
            <p:nvPr/>
          </p:nvSpPr>
          <p:spPr>
            <a:xfrm flipH="1">
              <a:off x="2303280" y="1893960"/>
              <a:ext cx="1292040" cy="97632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17" name="AutoShape 4"/>
            <p:cNvSpPr/>
            <p:nvPr/>
          </p:nvSpPr>
          <p:spPr>
            <a:xfrm>
              <a:off x="573120" y="2863800"/>
              <a:ext cx="3182760" cy="85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Врождённые 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18" name="Group 5"/>
          <p:cNvGrpSpPr/>
          <p:nvPr/>
        </p:nvGrpSpPr>
        <p:grpSpPr>
          <a:xfrm>
            <a:off x="5432400" y="1792440"/>
            <a:ext cx="3005280" cy="1871640"/>
            <a:chOff x="5432400" y="1792440"/>
            <a:chExt cx="3005280" cy="1871640"/>
          </a:xfrm>
        </p:grpSpPr>
        <p:sp>
          <p:nvSpPr>
            <p:cNvPr id="419" name="AutoShape 6"/>
            <p:cNvSpPr/>
            <p:nvPr/>
          </p:nvSpPr>
          <p:spPr>
            <a:xfrm>
              <a:off x="5432400" y="2803680"/>
              <a:ext cx="3005280" cy="86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Приобретённые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20" name="Line 7"/>
            <p:cNvSpPr/>
            <p:nvPr/>
          </p:nvSpPr>
          <p:spPr>
            <a:xfrm>
              <a:off x="5560920" y="1792440"/>
              <a:ext cx="1292400" cy="100476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421" name="AutoShape 8"/>
          <p:cNvSpPr/>
          <p:nvPr/>
        </p:nvSpPr>
        <p:spPr>
          <a:xfrm>
            <a:off x="2763720" y="1338120"/>
            <a:ext cx="352908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оражение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3"/>
          <a:stretch/>
        </p:blipFill>
        <p:spPr>
          <a:xfrm>
            <a:off x="539640" y="339840"/>
            <a:ext cx="324036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4" name="Rectangle 3"/>
          <p:cNvSpPr/>
          <p:nvPr/>
        </p:nvSpPr>
        <p:spPr>
          <a:xfrm>
            <a:off x="687240" y="3286080"/>
            <a:ext cx="763272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5c8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4"/>
          <a:stretch/>
        </p:blipFill>
        <p:spPr>
          <a:xfrm>
            <a:off x="684360" y="3292560"/>
            <a:ext cx="1557360" cy="15573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2409840" y="3413160"/>
            <a:ext cx="57405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UI Semibold"/>
                <a:ea typeface="Times New Roman"/>
              </a:rPr>
              <a:t>Гидроцефалия </a:t>
            </a:r>
            <a:r>
              <a:rPr b="0" lang="ru-RU" sz="14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– 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Segoe UI"/>
              </a:rPr>
              <a:t>увеличение объёма мозга из-за нарушения оттока из него спинномозговой жидкости.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5"/>
          <a:stretch/>
        </p:blipFill>
        <p:spPr>
          <a:xfrm>
            <a:off x="4427640" y="268200"/>
            <a:ext cx="353376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1042920" y="3363840"/>
            <a:ext cx="698508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кроцефал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едоразвитие мозга, когда его масса не достигает 1 кг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2987640" y="627120"/>
            <a:ext cx="367200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2"/>
          <p:cNvGrpSpPr/>
          <p:nvPr/>
        </p:nvGrpSpPr>
        <p:grpSpPr>
          <a:xfrm>
            <a:off x="880920" y="192240"/>
            <a:ext cx="2608200" cy="1439280"/>
            <a:chOff x="880920" y="192240"/>
            <a:chExt cx="2608200" cy="1439280"/>
          </a:xfrm>
        </p:grpSpPr>
        <p:sp>
          <p:nvSpPr>
            <p:cNvPr id="434" name="Line 3"/>
            <p:cNvSpPr/>
            <p:nvPr/>
          </p:nvSpPr>
          <p:spPr>
            <a:xfrm flipH="1" flipV="1">
              <a:off x="2267280" y="672480"/>
              <a:ext cx="1221840" cy="95904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35" name="AutoShape 4"/>
            <p:cNvSpPr/>
            <p:nvPr/>
          </p:nvSpPr>
          <p:spPr>
            <a:xfrm>
              <a:off x="880920" y="192240"/>
              <a:ext cx="2244960" cy="108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Инфекционные заболевания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36" name="Group 5"/>
          <p:cNvGrpSpPr/>
          <p:nvPr/>
        </p:nvGrpSpPr>
        <p:grpSpPr>
          <a:xfrm>
            <a:off x="5219640" y="239760"/>
            <a:ext cx="2373480" cy="1535760"/>
            <a:chOff x="5219640" y="239760"/>
            <a:chExt cx="2373480" cy="1535760"/>
          </a:xfrm>
        </p:grpSpPr>
        <p:sp>
          <p:nvSpPr>
            <p:cNvPr id="437" name="Line 6"/>
            <p:cNvSpPr/>
            <p:nvPr/>
          </p:nvSpPr>
          <p:spPr>
            <a:xfrm flipV="1">
              <a:off x="5610240" y="673560"/>
              <a:ext cx="1074600" cy="110196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38" name="AutoShape 7"/>
            <p:cNvSpPr/>
            <p:nvPr/>
          </p:nvSpPr>
          <p:spPr>
            <a:xfrm>
              <a:off x="5219640" y="239760"/>
              <a:ext cx="2373480" cy="103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Сотрясения 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головного мозга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39" name="Group 8"/>
          <p:cNvGrpSpPr/>
          <p:nvPr/>
        </p:nvGrpSpPr>
        <p:grpSpPr>
          <a:xfrm>
            <a:off x="1006560" y="3076560"/>
            <a:ext cx="2407680" cy="1724040"/>
            <a:chOff x="1006560" y="3076560"/>
            <a:chExt cx="2407680" cy="1724040"/>
          </a:xfrm>
        </p:grpSpPr>
        <p:sp>
          <p:nvSpPr>
            <p:cNvPr id="440" name="Line 9"/>
            <p:cNvSpPr/>
            <p:nvPr/>
          </p:nvSpPr>
          <p:spPr>
            <a:xfrm flipH="1">
              <a:off x="2303280" y="3076560"/>
              <a:ext cx="1110960" cy="100980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41" name="AutoShape 10"/>
            <p:cNvSpPr/>
            <p:nvPr/>
          </p:nvSpPr>
          <p:spPr>
            <a:xfrm>
              <a:off x="1006560" y="3746520"/>
              <a:ext cx="2333520" cy="1054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Вредные привычки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42" name="Group 11"/>
          <p:cNvGrpSpPr/>
          <p:nvPr/>
        </p:nvGrpSpPr>
        <p:grpSpPr>
          <a:xfrm>
            <a:off x="5468760" y="3032280"/>
            <a:ext cx="2772000" cy="1676160"/>
            <a:chOff x="5468760" y="3032280"/>
            <a:chExt cx="2772000" cy="1676160"/>
          </a:xfrm>
        </p:grpSpPr>
        <p:sp>
          <p:nvSpPr>
            <p:cNvPr id="443" name="Line 12"/>
            <p:cNvSpPr/>
            <p:nvPr/>
          </p:nvSpPr>
          <p:spPr>
            <a:xfrm>
              <a:off x="5508720" y="3032280"/>
              <a:ext cx="1251000" cy="108252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44" name="AutoShape 13"/>
            <p:cNvSpPr/>
            <p:nvPr/>
          </p:nvSpPr>
          <p:spPr>
            <a:xfrm>
              <a:off x="5468760" y="3774960"/>
              <a:ext cx="2772000" cy="933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Разрывы периферических нервов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2535120" y="1585800"/>
            <a:ext cx="3989520" cy="1708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иобретённые заболевания центральной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"/>
          <p:cNvPicPr/>
          <p:nvPr/>
        </p:nvPicPr>
        <p:blipFill>
          <a:blip r:embed="rId3"/>
          <a:stretch/>
        </p:blipFill>
        <p:spPr>
          <a:xfrm>
            <a:off x="0" y="-857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"/>
          <p:cNvSpPr/>
          <p:nvPr/>
        </p:nvSpPr>
        <p:spPr>
          <a:xfrm>
            <a:off x="531720" y="1380960"/>
            <a:ext cx="457200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UI"/>
                <a:ea typeface="Times New Roman"/>
              </a:rPr>
              <a:t>К инфекционным</a:t>
            </a:r>
            <a:endParaRPr b="0" lang="en-US" sz="2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болезням относятся менингит, энцефалит, корь, ветрянка, свинка, герпес, краснуха, бешенство, полиомиелит и многие другие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3"/>
          <a:stretch/>
        </p:blipFill>
        <p:spPr>
          <a:xfrm>
            <a:off x="5602320" y="0"/>
            <a:ext cx="3541680" cy="629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01:35Z</dcterms:created>
  <dc:creator>Пользователь</dc:creator>
  <dc:description/>
  <dc:language>en-US</dc:language>
  <cp:lastModifiedBy>Роман</cp:lastModifiedBy>
  <dcterms:modified xsi:type="dcterms:W3CDTF">2023-10-31T08:30:37Z</dcterms:modified>
  <cp:revision>1250</cp:revision>
  <dc:subject/>
  <dc:title>Презентация PowerPoint</dc:title>
</cp:coreProperties>
</file>