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23.png" ContentType="image/png"/>
  <Override PartName="/ppt/media/image13.jpeg" ContentType="image/jpeg"/>
  <Override PartName="/ppt/media/image30.png" ContentType="image/png"/>
  <Override PartName="/ppt/media/image37.jpeg" ContentType="image/jpeg"/>
  <Override PartName="/ppt/media/image12.jpeg" ContentType="image/jpeg"/>
  <Override PartName="/ppt/media/image14.jpeg" ContentType="image/jpeg"/>
  <Override PartName="/ppt/media/image39.jpeg" ContentType="image/jpeg"/>
  <Override PartName="/ppt/media/image8.png" ContentType="image/png"/>
  <Override PartName="/ppt/media/image31.png" ContentType="image/png"/>
  <Override PartName="/ppt/media/image6.png" ContentType="image/png"/>
  <Override PartName="/ppt/media/image36.jpeg" ContentType="image/jpeg"/>
  <Override PartName="/ppt/media/image38.jpeg" ContentType="image/jpeg"/>
  <Override PartName="/ppt/media/image44.jpeg" ContentType="image/jpeg"/>
  <Override PartName="/ppt/media/image41.png" ContentType="image/png"/>
  <Override PartName="/ppt/media/image42.jpeg" ContentType="image/jpeg"/>
  <Override PartName="/ppt/media/image34.jpeg" ContentType="image/jpeg"/>
  <Override PartName="/ppt/media/image7.png" ContentType="image/png"/>
  <Override PartName="/ppt/media/image10.png" ContentType="image/png"/>
  <Override PartName="/ppt/media/image35.jpeg" ContentType="image/jpeg"/>
  <Override PartName="/ppt/media/image1.jpeg" ContentType="image/jpe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9.jpeg" ContentType="image/jpe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0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01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dt" idx="19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ldImg"/>
          </p:nvPr>
        </p:nvSpPr>
        <p:spPr>
          <a:xfrm>
            <a:off x="685440" y="1143000"/>
            <a:ext cx="5483160" cy="3083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body"/>
          </p:nvPr>
        </p:nvSpPr>
        <p:spPr>
          <a:xfrm>
            <a:off x="685440" y="4400640"/>
            <a:ext cx="5483160" cy="35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7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20"/>
          </p:nvPr>
        </p:nvSpPr>
        <p:spPr>
          <a:xfrm>
            <a:off x="3884760" y="8685000"/>
            <a:ext cx="29685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CAAE83-5532-4A26-83CA-2F063D5FE02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02CBCBC-6F3F-40BD-9070-CE9ABC03517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AF5E25C-B903-4F3A-BE23-02258CD370A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87E5FE-CC53-4067-AE07-76F3E1DE739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B25A81D-D74F-4868-9181-F357B7D2F2A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50299F3-CB97-4E16-9C18-8E53089BF54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08852E-3CB0-4413-8D3F-96D37938695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74646D5-CC11-4EEB-92D7-B5EB16D7CAE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C0D2E87-BC6D-464A-8550-AF56FEDC04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4199E34-36F9-4F3B-94A0-F7ED9F2D7C2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42179F3-7EB1-415D-8A63-1FE112AB806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63BB599-A301-4F43-ACAE-7A3128CCC45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34482F9-F6C9-413A-9E53-C85B7F20F9B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4F01C20-F9DB-4417-BE88-DBDDB07EDB4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7F28A61-5387-4B0A-903A-A779C135CA7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E4648DA-A9DF-4CBF-9F51-3248229A92F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FE2BE9-6D78-4836-AACB-1F104241D8C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F713C79-AC01-4E43-88F2-C5E40D58E47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212964A-85B8-4CEA-835A-D5630E53562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863155C-E0D7-4DAA-B5DD-889D22EAFDE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A04A4B4-D8F0-4D30-8A9B-18F48E7EBA9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14B8F8-5FCE-4E2B-99C0-005819D0FCE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8767AC6-EF14-4C5D-BF83-6F2732F37D9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91CC0C-9A47-4DD4-969A-245556658DE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525339-FE06-4E96-A1D0-953FE23069F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1720" cy="308448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496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0041226-5A39-4485-99FD-F5DA73EE018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C656385-A1BD-4332-96DE-847F124FEDA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9C1477F-D38B-4CBB-B865-22213AC0AEB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FFC1F4-8127-42A3-A172-7C2AE4BB1F8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B3C7BE2-9810-4B8F-BD4A-6A47B230930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03F4E8-DF2B-4D6B-A136-AB38A994B9A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E9EF5C1-693A-4CC0-A50E-B77E286FB29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B07D602-F24E-4CC5-A09C-AF5AFB4C45B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529A7B7-CD9A-43CF-A7AA-9620B94B598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2022F6-C2F8-49F0-AED7-EEDF6E4542E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A609962-C2E5-4AF3-BDFA-F6DCAFFA2BF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43CF77F-83EE-438B-9A26-7EF3B90F234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9E9A3B3-8AFD-4BED-8A39-6776B464978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AE0CD50-32AB-4AC9-BBC9-2E4301B58C8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4115CBD-875E-4E83-8642-F753D8434FD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687240" y="1143000"/>
            <a:ext cx="5483520" cy="308628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43EF2-3F15-4757-B207-0EC63D5464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1336D-2ABF-4F0A-8F9E-F60B3802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7E508-D1E6-4871-8C12-EA87002C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5B582-B581-498E-BD31-E66EF2FC2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560" y="342720"/>
            <a:ext cx="868356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78246-955C-424D-8CB6-9028F366D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77EAC-E018-440F-904D-C9A90255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3F5AC-9C25-4A8C-BCD5-CF745F90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52AF0-5FC1-4831-9A92-AB90D3A9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79E0D-D37D-422B-8188-9A0A78B7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73A02-DF63-4921-9653-761EBEE3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03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652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5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03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652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8AF31-C60E-4933-932E-96369FE760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6EE40-B72E-405B-85A3-C98B6404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03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652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5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03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652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0B22D-3820-4518-BDFC-EB32104C1B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F53329-0DE0-43D4-AF9E-E4FC65B9A8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F885C4-BD94-47CF-9D56-20D5AAC0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26DC07-7CDF-4232-8189-A48463FE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01570-DCBA-4DB4-B5B2-AA942E93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A62ED-80C4-4FE3-BD04-30656AEA0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560" y="342720"/>
            <a:ext cx="868356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10A366-7DB6-4519-9C0C-1AE21AED2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B46587-D29C-43BE-894C-C52E2099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CDD90-CDD2-4652-A869-48871CA8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B210E7-1D60-4820-9F26-C1385BB9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4E85E4-B6E0-492C-9FB8-95E4025B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E5ACE4-65FA-4C3E-BA81-8755E0F0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AB532-96DF-46D4-B998-308DF2E1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03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652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5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03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652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C3271-3141-494B-9726-E4D27CBD5E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14FE-93F7-411A-B734-2BACB5352E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1BFB-57ED-46A1-AC9E-C3A1CF09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AB130-E9BD-41F2-BCF8-A41B7859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03B8-BC6B-43AA-95D0-9F5A7AF5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2A4A-EFAE-4D57-9403-C97FD79A0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5B82A-C8D0-47A1-B723-09A4E2FC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560" y="342720"/>
            <a:ext cx="868356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126D-D8F7-4C60-B6FD-70E7AC09F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3B32-FEB2-4E65-B7CB-F4DAC1E5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8BF2-148A-4310-8EE5-4F69F9DA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AB98-6020-4FBD-9B84-DACFCAE6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358E-C98A-49C2-8E3E-CAF1900E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09BB-B0B0-4286-A1D8-8AA2C060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03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652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5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03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652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C14C-EF9B-4849-8F4D-C16D504FE0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C2DCDA-C5E5-4E38-A10E-3CBB3BE744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63B039-B005-4C83-A8E4-0533C8F5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95004D-1A7C-4819-9897-AA1BFEB8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959B0-07E1-4486-88B1-FC3EF78C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0A78FE-8420-4461-BF00-E6B65F42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ABE196-BB2D-49EC-B780-2D420F631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560" y="342720"/>
            <a:ext cx="868356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20D1AC-2FBE-401F-90FE-7AA48B8D3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A3594D-1577-49CE-BDE0-2C3140B2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1EAA2C-0A74-4E52-8C74-4B99CED1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AECC68-36C7-4A0F-8D5E-9BA004DD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85B83C-636E-45F3-B09B-DAAB6EA0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791B0A-FE06-4D98-A3F5-1F5FA448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03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652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5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03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652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13C264-48A2-4A27-A2BE-C9522A4AFD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EF3360-85FD-4CC9-B0D3-0285C7861F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0A1B1-3BC0-4725-A110-D0365CBDC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50B923-7A91-41B2-8FE4-3E725347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EA5343-4232-4702-B246-88022A82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1DE4C8-302B-4458-8E43-8FB0D40E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F91BDB-928D-43D7-B401-CAC79BF94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560" y="342720"/>
            <a:ext cx="868356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EAE3BD-68BA-4540-BDE8-8A9E2CB9F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F76EE9-5F41-449A-ACF8-13D41C2E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CA4476-092D-4E59-835A-0EEF9B89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5ABB2D-9647-4422-A4FE-76DFF593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E68B74-375F-4794-8CD3-90DDE884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F564FF-5AF9-4266-B284-36544153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560" y="342720"/>
            <a:ext cx="868356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DFBCC-72C6-40EF-9CAA-559E9D391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03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652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5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03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652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AD60E7-43A2-4944-A621-7A7F85DA57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C126E-3F55-4B08-9A0B-DDA9C9AA76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931A8-1B7C-4785-8007-A3197E1B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CAB58-6D3B-4920-B8C2-B2BA4822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B1140-6445-4A36-9264-08BEB0F7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158D3-2444-40C0-956F-F8C457625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560" y="342720"/>
            <a:ext cx="868356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681D3-F955-448B-8534-1AC8D242C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7E328-4247-447B-A456-00C86576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A5975-5511-4724-A3F6-77EE035E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CC96C-E46D-47E7-BE70-78491958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683F7-CBF7-4579-AB03-9BC58174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07CAD-DA3F-4E03-8FE7-F9FB434C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A113C-FF64-49C1-B6EA-784CF5B4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03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652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5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03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652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533EF-C6B1-4650-B068-1DA18B77A4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47FD00-63EB-4A84-8B9E-7C6D5673A4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3B337A-786F-4F1E-9F6F-ECDEED86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26812A-A57B-414E-A098-F9D2F654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61A683-6C80-497C-93D3-502F558D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6234FB-4C8B-407D-AAED-AC580806C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560" y="342720"/>
            <a:ext cx="868356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45DFCE-7096-4528-89C4-77D104D14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FA49BE-BEC8-4028-BA9C-ECC08FFF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18B3A-8870-4426-9BB2-37279103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F90B75-17DE-4BFD-A2DF-8D34E3FC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C835E2-E8A4-4120-9F4C-F705885A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CA4A59-A8F0-4772-81E1-59DCB1C4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64F1F7-EB90-463B-88C5-05D2E865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03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652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5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03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652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B48144-8554-45D5-9BF2-64E617784F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68D85A-E53E-4AA8-A67B-6D39C84B50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6FE4A1-C722-4076-8FF4-99FFF2B7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583064-90D1-46B2-92AF-F0DAEF0C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2CA909-900B-4F1D-A086-E90AE820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F95CE2-C4B2-4AC8-BD22-CBC346A54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12831-1289-4F87-9A2C-725D3AD6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560" y="342720"/>
            <a:ext cx="868356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2B328D-40EA-4B5D-BD77-4139075E9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CA7EA2-BCEA-4BF5-B0DF-03A60597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92157A-F5A3-4CBC-8779-B6328529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13615F-093C-4BFE-BBF9-3E2888AB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560" y="2936880"/>
            <a:ext cx="8683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FC49D6-11E3-41AC-9DD2-2724EDC5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4520" y="116496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56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4520" y="2936880"/>
            <a:ext cx="42375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1A4FA7-5331-4360-BA83-53AC17B5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036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6520" y="116496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5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036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6520" y="2936880"/>
            <a:ext cx="279576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C40508-80C8-4F7B-82FC-7268D4215C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09E95-6E27-4A79-82B2-0F8FA25CCD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06ABD-B225-4894-8639-135C929C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560" y="334080"/>
            <a:ext cx="8683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spcAft>
                <a:spcPts val="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1620F-1CA8-4698-8AB9-86CF6862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506520" y="774720"/>
            <a:ext cx="8640720" cy="27000"/>
            <a:chOff x="506520" y="774720"/>
            <a:chExt cx="8640720" cy="27000"/>
          </a:xfrm>
        </p:grpSpPr>
        <p:pic>
          <p:nvPicPr>
            <p:cNvPr id="1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774720"/>
              <a:ext cx="8640720" cy="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Text Box 3"/>
            <p:cNvSpPr/>
            <p:nvPr/>
          </p:nvSpPr>
          <p:spPr>
            <a:xfrm>
              <a:off x="514440" y="78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2556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29600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7120" y="56880"/>
            <a:ext cx="25113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3124080" y="57240"/>
            <a:ext cx="3353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8229600" y="4857840"/>
            <a:ext cx="758880" cy="1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2F5AB7B-3524-4D99-A081-5DA15B5B0A44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304560" y="342720"/>
            <a:ext cx="86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506520" y="774720"/>
            <a:ext cx="8640720" cy="27000"/>
            <a:chOff x="506520" y="774720"/>
            <a:chExt cx="8640720" cy="27000"/>
          </a:xfrm>
        </p:grpSpPr>
        <p:pic>
          <p:nvPicPr>
            <p:cNvPr id="9" name="Picture 10" descr=""/>
            <p:cNvPicPr/>
            <p:nvPr/>
          </p:nvPicPr>
          <p:blipFill>
            <a:blip r:embed="rId4"/>
            <a:stretch/>
          </p:blipFill>
          <p:spPr>
            <a:xfrm>
              <a:off x="506520" y="774720"/>
              <a:ext cx="8640720" cy="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Text Box 11"/>
            <p:cNvSpPr/>
            <p:nvPr/>
          </p:nvSpPr>
          <p:spPr>
            <a:xfrm>
              <a:off x="514440" y="78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grpSp>
        <p:nvGrpSpPr>
          <p:cNvPr id="11" name="Group 12"/>
          <p:cNvGrpSpPr/>
          <p:nvPr/>
        </p:nvGrpSpPr>
        <p:grpSpPr>
          <a:xfrm>
            <a:off x="506520" y="781200"/>
            <a:ext cx="8640720" cy="20520"/>
            <a:chOff x="506520" y="781200"/>
            <a:chExt cx="8640720" cy="20520"/>
          </a:xfrm>
        </p:grpSpPr>
        <p:pic>
          <p:nvPicPr>
            <p:cNvPr id="12" name="Picture 13" descr=""/>
            <p:cNvPicPr/>
            <p:nvPr/>
          </p:nvPicPr>
          <p:blipFill>
            <a:blip r:embed="rId5"/>
            <a:stretch/>
          </p:blipFill>
          <p:spPr>
            <a:xfrm>
              <a:off x="506520" y="781200"/>
              <a:ext cx="8640720" cy="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Text Box 14"/>
            <p:cNvSpPr/>
            <p:nvPr/>
          </p:nvSpPr>
          <p:spPr>
            <a:xfrm>
              <a:off x="514440" y="7938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"/>
          <p:cNvGrpSpPr/>
          <p:nvPr/>
        </p:nvGrpSpPr>
        <p:grpSpPr>
          <a:xfrm>
            <a:off x="506520" y="3998880"/>
            <a:ext cx="8640720" cy="20520"/>
            <a:chOff x="506520" y="3998880"/>
            <a:chExt cx="8640720" cy="20520"/>
          </a:xfrm>
        </p:grpSpPr>
        <p:pic>
          <p:nvPicPr>
            <p:cNvPr id="51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3998880"/>
              <a:ext cx="8640720" cy="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3"/>
            <p:cNvSpPr/>
            <p:nvPr/>
          </p:nvSpPr>
          <p:spPr>
            <a:xfrm>
              <a:off x="514440" y="40132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2556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29600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560" y="342720"/>
            <a:ext cx="86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3"/>
          </p:nvPr>
        </p:nvSpPr>
        <p:spPr>
          <a:xfrm>
            <a:off x="6477120" y="56880"/>
            <a:ext cx="25113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124080" y="57240"/>
            <a:ext cx="3353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8229240" y="4855680"/>
            <a:ext cx="755640" cy="1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DB6C0B6-AD98-47ED-9FDD-F3812171C201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1"/>
          <p:cNvGrpSpPr/>
          <p:nvPr/>
        </p:nvGrpSpPr>
        <p:grpSpPr>
          <a:xfrm>
            <a:off x="506520" y="774720"/>
            <a:ext cx="8640720" cy="27000"/>
            <a:chOff x="506520" y="774720"/>
            <a:chExt cx="8640720" cy="27000"/>
          </a:xfrm>
        </p:grpSpPr>
        <p:pic>
          <p:nvPicPr>
            <p:cNvPr id="95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774720"/>
              <a:ext cx="8640720" cy="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3"/>
            <p:cNvSpPr/>
            <p:nvPr/>
          </p:nvSpPr>
          <p:spPr>
            <a:xfrm>
              <a:off x="514440" y="78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grpSp>
        <p:nvGrpSpPr>
          <p:cNvPr id="97" name="Group 4"/>
          <p:cNvGrpSpPr/>
          <p:nvPr/>
        </p:nvGrpSpPr>
        <p:grpSpPr>
          <a:xfrm>
            <a:off x="506520" y="774720"/>
            <a:ext cx="8640720" cy="27000"/>
            <a:chOff x="506520" y="774720"/>
            <a:chExt cx="8640720" cy="27000"/>
          </a:xfrm>
        </p:grpSpPr>
        <p:pic>
          <p:nvPicPr>
            <p:cNvPr id="98" name="Picture 5" descr=""/>
            <p:cNvPicPr/>
            <p:nvPr/>
          </p:nvPicPr>
          <p:blipFill>
            <a:blip r:embed="rId4"/>
            <a:stretch/>
          </p:blipFill>
          <p:spPr>
            <a:xfrm>
              <a:off x="506520" y="774720"/>
              <a:ext cx="8640720" cy="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6"/>
            <p:cNvSpPr/>
            <p:nvPr/>
          </p:nvSpPr>
          <p:spPr>
            <a:xfrm>
              <a:off x="514440" y="78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grpSp>
        <p:nvGrpSpPr>
          <p:cNvPr id="100" name="Group 7"/>
          <p:cNvGrpSpPr/>
          <p:nvPr/>
        </p:nvGrpSpPr>
        <p:grpSpPr>
          <a:xfrm>
            <a:off x="506520" y="781200"/>
            <a:ext cx="8640720" cy="20520"/>
            <a:chOff x="506520" y="781200"/>
            <a:chExt cx="8640720" cy="20520"/>
          </a:xfrm>
        </p:grpSpPr>
        <p:pic>
          <p:nvPicPr>
            <p:cNvPr id="101" name="Picture 8" descr=""/>
            <p:cNvPicPr/>
            <p:nvPr/>
          </p:nvPicPr>
          <p:blipFill>
            <a:blip r:embed="rId5"/>
            <a:stretch/>
          </p:blipFill>
          <p:spPr>
            <a:xfrm>
              <a:off x="506520" y="781200"/>
              <a:ext cx="8640720" cy="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9"/>
            <p:cNvSpPr/>
            <p:nvPr/>
          </p:nvSpPr>
          <p:spPr>
            <a:xfrm>
              <a:off x="514440" y="7938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2556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29600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560" y="342720"/>
            <a:ext cx="86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5"/>
          </p:nvPr>
        </p:nvSpPr>
        <p:spPr>
          <a:xfrm>
            <a:off x="6477120" y="56880"/>
            <a:ext cx="25113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3581280" y="57240"/>
            <a:ext cx="28958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8229240" y="4855680"/>
            <a:ext cx="755640" cy="1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4FAC98F-F78A-444E-8C64-D54BD21254E0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1"/>
          <p:cNvGrpSpPr/>
          <p:nvPr/>
        </p:nvGrpSpPr>
        <p:grpSpPr>
          <a:xfrm>
            <a:off x="506520" y="2571840"/>
            <a:ext cx="8640720" cy="21960"/>
            <a:chOff x="506520" y="2571840"/>
            <a:chExt cx="8640720" cy="21960"/>
          </a:xfrm>
        </p:grpSpPr>
        <p:pic>
          <p:nvPicPr>
            <p:cNvPr id="145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2571840"/>
              <a:ext cx="8640720" cy="2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3"/>
            <p:cNvSpPr/>
            <p:nvPr/>
          </p:nvSpPr>
          <p:spPr>
            <a:xfrm>
              <a:off x="514440" y="25844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601560" indent="-231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92556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29600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560" y="342720"/>
            <a:ext cx="86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6477120" y="56880"/>
            <a:ext cx="25113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3124080" y="57240"/>
            <a:ext cx="3353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229600" y="4857840"/>
            <a:ext cx="758880" cy="1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F602A5E-FED2-4BF2-9E7A-510633CB51EA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1"/>
          <p:cNvGrpSpPr/>
          <p:nvPr/>
        </p:nvGrpSpPr>
        <p:grpSpPr>
          <a:xfrm>
            <a:off x="506520" y="4505400"/>
            <a:ext cx="8640720" cy="20520"/>
            <a:chOff x="506520" y="4505400"/>
            <a:chExt cx="8640720" cy="20520"/>
          </a:xfrm>
        </p:grpSpPr>
        <p:pic>
          <p:nvPicPr>
            <p:cNvPr id="189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4505400"/>
              <a:ext cx="8640720" cy="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3"/>
            <p:cNvSpPr/>
            <p:nvPr/>
          </p:nvSpPr>
          <p:spPr>
            <a:xfrm>
              <a:off x="514440" y="4514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2556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29600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560" y="342720"/>
            <a:ext cx="86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9"/>
          </p:nvPr>
        </p:nvSpPr>
        <p:spPr>
          <a:xfrm>
            <a:off x="6477120" y="56880"/>
            <a:ext cx="25113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3124080" y="57240"/>
            <a:ext cx="3353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0"/>
          </p:nvPr>
        </p:nvSpPr>
        <p:spPr>
          <a:xfrm>
            <a:off x="8229600" y="4857480"/>
            <a:ext cx="75888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050EFDA-D5BD-4C76-9088-BE3E944642D7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2556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29600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560" y="342720"/>
            <a:ext cx="86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1"/>
          </p:nvPr>
        </p:nvSpPr>
        <p:spPr>
          <a:xfrm>
            <a:off x="6477120" y="56880"/>
            <a:ext cx="25113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3124080" y="57240"/>
            <a:ext cx="3353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2"/>
          </p:nvPr>
        </p:nvSpPr>
        <p:spPr>
          <a:xfrm>
            <a:off x="8229600" y="4857840"/>
            <a:ext cx="758880" cy="1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4C46831-3249-4DE0-BDAB-EE1300C0CB23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1"/>
          <p:cNvGrpSpPr/>
          <p:nvPr/>
        </p:nvGrpSpPr>
        <p:grpSpPr>
          <a:xfrm>
            <a:off x="506520" y="4376880"/>
            <a:ext cx="8640720" cy="20520"/>
            <a:chOff x="506520" y="4376880"/>
            <a:chExt cx="8640720" cy="20520"/>
          </a:xfrm>
        </p:grpSpPr>
        <p:pic>
          <p:nvPicPr>
            <p:cNvPr id="274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4376880"/>
              <a:ext cx="8640720" cy="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Text Box 3"/>
            <p:cNvSpPr/>
            <p:nvPr/>
          </p:nvSpPr>
          <p:spPr>
            <a:xfrm>
              <a:off x="514440" y="43862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2556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29600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560" y="342720"/>
            <a:ext cx="86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3"/>
          </p:nvPr>
        </p:nvSpPr>
        <p:spPr>
          <a:xfrm>
            <a:off x="6477120" y="56880"/>
            <a:ext cx="25113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3124080" y="57240"/>
            <a:ext cx="3353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14"/>
          </p:nvPr>
        </p:nvSpPr>
        <p:spPr>
          <a:xfrm>
            <a:off x="8229600" y="4857840"/>
            <a:ext cx="758880" cy="1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1BEA91F-9F88-40B4-90F7-49B7694624C3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2556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29600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560" y="342720"/>
            <a:ext cx="86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5"/>
          </p:nvPr>
        </p:nvSpPr>
        <p:spPr>
          <a:xfrm>
            <a:off x="6477120" y="56880"/>
            <a:ext cx="25113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3124080" y="57240"/>
            <a:ext cx="3353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sldNum" idx="16"/>
          </p:nvPr>
        </p:nvSpPr>
        <p:spPr>
          <a:xfrm>
            <a:off x="8229600" y="4857840"/>
            <a:ext cx="758880" cy="1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760FD96-CC25-4B2D-9B57-56A8E6EDB209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560" y="1164960"/>
            <a:ext cx="86835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2556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29600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666440" indent="-18504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560" y="342720"/>
            <a:ext cx="86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7"/>
          </p:nvPr>
        </p:nvSpPr>
        <p:spPr>
          <a:xfrm>
            <a:off x="6477120" y="56880"/>
            <a:ext cx="25113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3124080" y="57240"/>
            <a:ext cx="3353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sldNum" idx="18"/>
          </p:nvPr>
        </p:nvSpPr>
        <p:spPr>
          <a:xfrm>
            <a:off x="8229600" y="4857840"/>
            <a:ext cx="758880" cy="1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AD2803F-35C1-4AFF-95D7-F6BC7074F095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6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6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1" descr=""/>
          <p:cNvPicPr/>
          <p:nvPr/>
        </p:nvPicPr>
        <p:blipFill>
          <a:blip r:embed="rId2"/>
          <a:stretch/>
        </p:blipFill>
        <p:spPr>
          <a:xfrm>
            <a:off x="438120" y="1554120"/>
            <a:ext cx="7950240" cy="143352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2"/>
          <p:cNvSpPr/>
          <p:nvPr/>
        </p:nvSpPr>
        <p:spPr>
          <a:xfrm>
            <a:off x="1911240" y="3525840"/>
            <a:ext cx="56484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2"/>
          <p:cNvSpPr/>
          <p:nvPr/>
        </p:nvSpPr>
        <p:spPr>
          <a:xfrm>
            <a:off x="0" y="0"/>
            <a:ext cx="421164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53" name="Rectangle 3"/>
          <p:cNvSpPr/>
          <p:nvPr/>
        </p:nvSpPr>
        <p:spPr>
          <a:xfrm>
            <a:off x="395280" y="1779480"/>
            <a:ext cx="4572000" cy="17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UI"/>
                <a:ea typeface="Times New Roman"/>
              </a:rPr>
              <a:t>Вредные привычки </a:t>
            </a:r>
            <a:r>
              <a:rPr b="0" lang="ru-RU" sz="2400" spc="-1" strike="noStrike">
                <a:solidFill>
                  <a:srgbClr val="000000"/>
                </a:solidFill>
                <a:latin typeface="Segoe UI"/>
                <a:ea typeface="Times New Roman"/>
              </a:rPr>
              <a:t>— причина заболеваний центральной нервной системы.</a:t>
            </a:r>
            <a:endParaRPr b="0" lang="en-US" sz="2400" spc="-1" strike="noStrike">
              <a:solidFill>
                <a:srgbClr val="ffffff"/>
              </a:solidFill>
              <a:latin typeface="Segoe UI Symbol"/>
            </a:endParaRPr>
          </a:p>
        </p:txBody>
      </p:sp>
      <p:pic>
        <p:nvPicPr>
          <p:cNvPr id="454" name="Picture 4" descr=""/>
          <p:cNvPicPr/>
          <p:nvPr/>
        </p:nvPicPr>
        <p:blipFill>
          <a:blip r:embed="rId3"/>
          <a:stretch/>
        </p:blipFill>
        <p:spPr>
          <a:xfrm>
            <a:off x="4211640" y="0"/>
            <a:ext cx="5143320" cy="5143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2" descr=""/>
          <p:cNvPicPr/>
          <p:nvPr/>
        </p:nvPicPr>
        <p:blipFill>
          <a:blip r:embed="rId3"/>
          <a:stretch/>
        </p:blipFill>
        <p:spPr>
          <a:xfrm>
            <a:off x="-14400" y="-839880"/>
            <a:ext cx="9158400" cy="6107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" descr=""/>
          <p:cNvPicPr/>
          <p:nvPr/>
        </p:nvPicPr>
        <p:blipFill>
          <a:blip r:embed="rId3"/>
          <a:stretch/>
        </p:blipFill>
        <p:spPr>
          <a:xfrm>
            <a:off x="-36360" y="-358920"/>
            <a:ext cx="9180360" cy="5534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2"/>
          <p:cNvSpPr/>
          <p:nvPr/>
        </p:nvSpPr>
        <p:spPr>
          <a:xfrm>
            <a:off x="468360" y="1492200"/>
            <a:ext cx="3887640" cy="23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UI"/>
                <a:ea typeface="Times New Roman"/>
              </a:rPr>
              <a:t>Отрицательное</a:t>
            </a:r>
            <a:r>
              <a:rPr b="0" lang="ru-RU" sz="2000" spc="-1" strike="noStrike">
                <a:solidFill>
                  <a:srgbClr val="000000"/>
                </a:solidFill>
                <a:latin typeface="Segoe UI"/>
                <a:ea typeface="Times New Roman"/>
              </a:rPr>
              <a:t> действие никотина на центральную нервную систему выражается вначале в её возбуждении, а затем в угнетении. 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61" name="Rectangle 3"/>
          <p:cNvSpPr/>
          <p:nvPr/>
        </p:nvSpPr>
        <p:spPr>
          <a:xfrm>
            <a:off x="4676760" y="4280040"/>
            <a:ext cx="4084560" cy="52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egoe UI"/>
                <a:ea typeface="Segoe UI"/>
              </a:rPr>
              <a:t>Никотин</a:t>
            </a:r>
            <a:endParaRPr b="0" lang="en-US" sz="2400" spc="-1" strike="noStrike">
              <a:solidFill>
                <a:srgbClr val="ffffff"/>
              </a:solidFill>
              <a:latin typeface="Segoe UI Symbol"/>
            </a:endParaRPr>
          </a:p>
        </p:txBody>
      </p:sp>
      <p:pic>
        <p:nvPicPr>
          <p:cNvPr id="462" name="Picture 4" descr=""/>
          <p:cNvPicPr/>
          <p:nvPr/>
        </p:nvPicPr>
        <p:blipFill>
          <a:blip r:embed="rId3"/>
          <a:stretch/>
        </p:blipFill>
        <p:spPr>
          <a:xfrm>
            <a:off x="4676760" y="195120"/>
            <a:ext cx="4084560" cy="4084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2" descr=""/>
          <p:cNvPicPr/>
          <p:nvPr/>
        </p:nvPicPr>
        <p:blipFill>
          <a:blip r:embed="rId3"/>
          <a:stretch/>
        </p:blipFill>
        <p:spPr>
          <a:xfrm>
            <a:off x="4000680" y="-1440"/>
            <a:ext cx="5143320" cy="514332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3"/>
          <p:cNvSpPr/>
          <p:nvPr/>
        </p:nvSpPr>
        <p:spPr>
          <a:xfrm>
            <a:off x="-66600" y="-11160"/>
            <a:ext cx="4067280" cy="51436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539640" y="12762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egoe UI"/>
                <a:ea typeface="Times New Roman"/>
              </a:rPr>
              <a:t>Курящие люди становятся раздражительными и легковозбудимыми, у них наруша­ется сон, аппетит.</a:t>
            </a:r>
            <a:endParaRPr b="0" lang="en-US" sz="24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2" descr=""/>
          <p:cNvPicPr/>
          <p:nvPr/>
        </p:nvPicPr>
        <p:blipFill>
          <a:blip r:embed="rId3"/>
          <a:stretch/>
        </p:blipFill>
        <p:spPr>
          <a:xfrm>
            <a:off x="-181080" y="-25560"/>
            <a:ext cx="10542600" cy="5272200"/>
          </a:xfrm>
          <a:prstGeom prst="rect">
            <a:avLst/>
          </a:prstGeom>
          <a:ln w="0">
            <a:noFill/>
          </a:ln>
        </p:spPr>
      </p:pic>
      <p:sp>
        <p:nvSpPr>
          <p:cNvPr id="469" name="Rectangle 3"/>
          <p:cNvSpPr/>
          <p:nvPr/>
        </p:nvSpPr>
        <p:spPr>
          <a:xfrm>
            <a:off x="-181080" y="771480"/>
            <a:ext cx="5545080" cy="280836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70" name="Rectangle 4"/>
          <p:cNvSpPr/>
          <p:nvPr/>
        </p:nvSpPr>
        <p:spPr>
          <a:xfrm>
            <a:off x="395280" y="1203480"/>
            <a:ext cx="4572000" cy="17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egoe UI"/>
                <a:ea typeface="Times New Roman"/>
              </a:rPr>
              <a:t>Нередко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возникают расстройства памяти, головные боли, бессонница, дрожание рук, снижается работоспособность, ухудшается настроение.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2" descr=""/>
          <p:cNvPicPr/>
          <p:nvPr/>
        </p:nvPicPr>
        <p:blipFill>
          <a:blip r:embed="rId3"/>
          <a:stretch/>
        </p:blipFill>
        <p:spPr>
          <a:xfrm>
            <a:off x="4572000" y="1119240"/>
            <a:ext cx="3975120" cy="403236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3" descr=""/>
          <p:cNvPicPr/>
          <p:nvPr/>
        </p:nvPicPr>
        <p:blipFill>
          <a:blip r:embed="rId4"/>
          <a:stretch/>
        </p:blipFill>
        <p:spPr>
          <a:xfrm>
            <a:off x="1173240" y="2643120"/>
            <a:ext cx="2555640" cy="1949400"/>
          </a:xfrm>
          <a:prstGeom prst="rect">
            <a:avLst/>
          </a:prstGeom>
          <a:ln w="0">
            <a:noFill/>
          </a:ln>
        </p:spPr>
      </p:pic>
      <p:grpSp>
        <p:nvGrpSpPr>
          <p:cNvPr id="474" name="Group 4"/>
          <p:cNvGrpSpPr/>
          <p:nvPr/>
        </p:nvGrpSpPr>
        <p:grpSpPr>
          <a:xfrm>
            <a:off x="1303200" y="1119240"/>
            <a:ext cx="4849920" cy="1344600"/>
            <a:chOff x="1303200" y="1119240"/>
            <a:chExt cx="4849920" cy="1344600"/>
          </a:xfrm>
        </p:grpSpPr>
        <p:pic>
          <p:nvPicPr>
            <p:cNvPr id="475" name="Picture 5" descr=""/>
            <p:cNvPicPr/>
            <p:nvPr/>
          </p:nvPicPr>
          <p:blipFill>
            <a:blip r:embed="rId5"/>
            <a:stretch/>
          </p:blipFill>
          <p:spPr>
            <a:xfrm>
              <a:off x="1303200" y="1119240"/>
              <a:ext cx="1962360" cy="13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Text Box 6"/>
            <p:cNvSpPr/>
            <p:nvPr/>
          </p:nvSpPr>
          <p:spPr>
            <a:xfrm>
              <a:off x="3132000" y="1724040"/>
              <a:ext cx="302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этанол</a:t>
              </a: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  <p:sp>
          <p:nvSpPr>
            <p:cNvPr id="477" name="Line 7"/>
            <p:cNvSpPr/>
            <p:nvPr/>
          </p:nvSpPr>
          <p:spPr>
            <a:xfrm flipH="1">
              <a:off x="2414520" y="2160720"/>
              <a:ext cx="1005120" cy="102960"/>
            </a:xfrm>
            <a:prstGeom prst="line">
              <a:avLst/>
            </a:prstGeom>
            <a:ln w="10080">
              <a:solidFill>
                <a:srgbClr val="40404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</p:spTree>
  </p:cSld>
  <p:transition spd="med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79" name="AutoShape 2"/>
          <p:cNvSpPr/>
          <p:nvPr/>
        </p:nvSpPr>
        <p:spPr>
          <a:xfrm>
            <a:off x="2600280" y="771480"/>
            <a:ext cx="394344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03b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Segoe UI"/>
                <a:ea typeface="Segoe UI"/>
              </a:rPr>
              <a:t>Утрачивается разумный контроль над поступками, снижается критическое отношение к себе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-108000" y="-12600"/>
            <a:ext cx="9252000" cy="4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b3305"/>
                </a:solidFill>
                <a:latin typeface="Segoe UI"/>
                <a:ea typeface="Segoe UI"/>
              </a:rPr>
              <a:t>Механизм воздействия алкоголя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81" name="AutoShape 4"/>
          <p:cNvSpPr/>
          <p:nvPr/>
        </p:nvSpPr>
        <p:spPr>
          <a:xfrm>
            <a:off x="4427640" y="2257560"/>
            <a:ext cx="431640" cy="64764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fffff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82" name="AutoShape 5"/>
          <p:cNvSpPr/>
          <p:nvPr/>
        </p:nvSpPr>
        <p:spPr>
          <a:xfrm>
            <a:off x="2673360" y="3076560"/>
            <a:ext cx="394164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03b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Segoe UI"/>
                <a:ea typeface="Segoe UI"/>
              </a:rPr>
              <a:t>Угнетение тормозных процессов в коре головного мозга</a:t>
            </a:r>
            <a:endParaRPr b="0" lang="en-US" sz="24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"/>
          <p:cNvPicPr/>
          <p:nvPr/>
        </p:nvPicPr>
        <p:blipFill>
          <a:blip r:embed="rId3"/>
          <a:stretch/>
        </p:blipFill>
        <p:spPr>
          <a:xfrm>
            <a:off x="1440" y="-812880"/>
            <a:ext cx="9142560" cy="6080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"/>
          <p:cNvPicPr/>
          <p:nvPr/>
        </p:nvPicPr>
        <p:blipFill>
          <a:blip r:embed="rId3"/>
          <a:stretch/>
        </p:blipFill>
        <p:spPr>
          <a:xfrm>
            <a:off x="-20520" y="-523800"/>
            <a:ext cx="9180360" cy="612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"/>
          <p:cNvPicPr/>
          <p:nvPr/>
        </p:nvPicPr>
        <p:blipFill>
          <a:blip r:embed="rId3"/>
          <a:stretch/>
        </p:blipFill>
        <p:spPr>
          <a:xfrm>
            <a:off x="1692360" y="385920"/>
            <a:ext cx="1820880" cy="43718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"/>
          <p:cNvPicPr/>
          <p:nvPr/>
        </p:nvPicPr>
        <p:blipFill>
          <a:blip r:embed="rId4"/>
          <a:stretch/>
        </p:blipFill>
        <p:spPr>
          <a:xfrm>
            <a:off x="4356000" y="771480"/>
            <a:ext cx="3627360" cy="3508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" descr=""/>
          <p:cNvPicPr/>
          <p:nvPr/>
        </p:nvPicPr>
        <p:blipFill>
          <a:blip r:embed="rId3"/>
          <a:stretch/>
        </p:blipFill>
        <p:spPr>
          <a:xfrm>
            <a:off x="0" y="-66816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" descr=""/>
          <p:cNvPicPr/>
          <p:nvPr/>
        </p:nvPicPr>
        <p:blipFill>
          <a:blip r:embed="rId3"/>
          <a:stretch/>
        </p:blipFill>
        <p:spPr>
          <a:xfrm>
            <a:off x="0" y="-8571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"/>
          <p:cNvPicPr/>
          <p:nvPr/>
        </p:nvPicPr>
        <p:blipFill>
          <a:blip r:embed="rId3"/>
          <a:stretch/>
        </p:blipFill>
        <p:spPr>
          <a:xfrm>
            <a:off x="2820960" y="1241280"/>
            <a:ext cx="3311640" cy="35672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3" descr=""/>
          <p:cNvPicPr/>
          <p:nvPr/>
        </p:nvPicPr>
        <p:blipFill>
          <a:blip r:embed="rId4"/>
          <a:stretch/>
        </p:blipFill>
        <p:spPr>
          <a:xfrm>
            <a:off x="3397320" y="268200"/>
            <a:ext cx="2482920" cy="1947960"/>
          </a:xfrm>
          <a:prstGeom prst="rect">
            <a:avLst/>
          </a:prstGeom>
          <a:ln w="0">
            <a:noFill/>
          </a:ln>
        </p:spPr>
      </p:pic>
      <p:grpSp>
        <p:nvGrpSpPr>
          <p:cNvPr id="494" name="Group 4"/>
          <p:cNvGrpSpPr/>
          <p:nvPr/>
        </p:nvGrpSpPr>
        <p:grpSpPr>
          <a:xfrm>
            <a:off x="5052600" y="538200"/>
            <a:ext cx="3890880" cy="1166760"/>
            <a:chOff x="5052600" y="538200"/>
            <a:chExt cx="3890880" cy="1166760"/>
          </a:xfrm>
        </p:grpSpPr>
        <p:sp>
          <p:nvSpPr>
            <p:cNvPr id="495" name="Text Box 5"/>
            <p:cNvSpPr/>
            <p:nvPr/>
          </p:nvSpPr>
          <p:spPr>
            <a:xfrm>
              <a:off x="5919840" y="538200"/>
              <a:ext cx="30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питательные вещества</a:t>
              </a: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  <p:sp>
          <p:nvSpPr>
            <p:cNvPr id="496" name="Line 6"/>
            <p:cNvSpPr/>
            <p:nvPr/>
          </p:nvSpPr>
          <p:spPr>
            <a:xfrm flipH="1">
              <a:off x="5052600" y="1012680"/>
              <a:ext cx="2151720" cy="692280"/>
            </a:xfrm>
            <a:prstGeom prst="line">
              <a:avLst/>
            </a:prstGeom>
            <a:ln w="10080">
              <a:solidFill>
                <a:srgbClr val="40404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grpSp>
        <p:nvGrpSpPr>
          <p:cNvPr id="497" name="Group 7"/>
          <p:cNvGrpSpPr/>
          <p:nvPr/>
        </p:nvGrpSpPr>
        <p:grpSpPr>
          <a:xfrm>
            <a:off x="1138320" y="914400"/>
            <a:ext cx="3020760" cy="381960"/>
            <a:chOff x="1138320" y="914400"/>
            <a:chExt cx="3020760" cy="381960"/>
          </a:xfrm>
        </p:grpSpPr>
        <p:sp>
          <p:nvSpPr>
            <p:cNvPr id="498" name="Text Box 8"/>
            <p:cNvSpPr/>
            <p:nvPr/>
          </p:nvSpPr>
          <p:spPr>
            <a:xfrm>
              <a:off x="1138320" y="914400"/>
              <a:ext cx="30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кислород</a:t>
              </a: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  <p:sp>
          <p:nvSpPr>
            <p:cNvPr id="499" name="Line 9"/>
            <p:cNvSpPr/>
            <p:nvPr/>
          </p:nvSpPr>
          <p:spPr>
            <a:xfrm flipV="1">
              <a:off x="1676520" y="1204560"/>
              <a:ext cx="2130480" cy="91800"/>
            </a:xfrm>
            <a:prstGeom prst="line">
              <a:avLst/>
            </a:prstGeom>
            <a:ln w="10080">
              <a:solidFill>
                <a:srgbClr val="40404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01" name="Rectangle 2"/>
          <p:cNvSpPr/>
          <p:nvPr/>
        </p:nvSpPr>
        <p:spPr>
          <a:xfrm>
            <a:off x="-108000" y="-12600"/>
            <a:ext cx="9252000" cy="4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b3305"/>
                </a:solidFill>
                <a:latin typeface="Segoe UI"/>
                <a:ea typeface="Segoe UI"/>
              </a:rPr>
              <a:t>Инсульт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pic>
        <p:nvPicPr>
          <p:cNvPr id="502" name="Picture 3" descr=""/>
          <p:cNvPicPr/>
          <p:nvPr/>
        </p:nvPicPr>
        <p:blipFill>
          <a:blip r:embed="rId3"/>
          <a:stretch/>
        </p:blipFill>
        <p:spPr>
          <a:xfrm>
            <a:off x="1187280" y="836640"/>
            <a:ext cx="2835360" cy="39402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" descr=""/>
          <p:cNvPicPr/>
          <p:nvPr/>
        </p:nvPicPr>
        <p:blipFill>
          <a:blip r:embed="rId4"/>
          <a:stretch/>
        </p:blipFill>
        <p:spPr>
          <a:xfrm>
            <a:off x="4859280" y="773280"/>
            <a:ext cx="2925720" cy="4066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2"/>
          <p:cNvSpPr/>
          <p:nvPr/>
        </p:nvSpPr>
        <p:spPr>
          <a:xfrm>
            <a:off x="-108000" y="-12600"/>
            <a:ext cx="9252000" cy="4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b3305"/>
                </a:solidFill>
                <a:latin typeface="Segoe UI"/>
                <a:ea typeface="Segoe UI"/>
              </a:rPr>
              <a:t>Инсульт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06" name="AutoShape 3"/>
          <p:cNvSpPr/>
          <p:nvPr/>
        </p:nvSpPr>
        <p:spPr>
          <a:xfrm>
            <a:off x="2627280" y="915840"/>
            <a:ext cx="4281480" cy="1057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03b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Segoe UI"/>
                <a:ea typeface="Segoe UI"/>
              </a:rPr>
              <a:t>Инсульт может привести к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07" name="Rectangle 4"/>
          <p:cNvSpPr/>
          <p:nvPr/>
        </p:nvSpPr>
        <p:spPr>
          <a:xfrm>
            <a:off x="2627280" y="2139840"/>
            <a:ext cx="4572000" cy="21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коме, 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параличам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нарушениям интеллекта или памяти,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смерти.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1" descr=""/>
          <p:cNvPicPr/>
          <p:nvPr/>
        </p:nvPicPr>
        <p:blipFill>
          <a:blip r:embed="rId2"/>
          <a:stretch/>
        </p:blipFill>
        <p:spPr>
          <a:xfrm>
            <a:off x="0" y="-23760"/>
            <a:ext cx="9144000" cy="516744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2"/>
          <p:cNvSpPr/>
          <p:nvPr/>
        </p:nvSpPr>
        <p:spPr>
          <a:xfrm>
            <a:off x="452520" y="1131840"/>
            <a:ext cx="3816360" cy="28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UI"/>
                <a:ea typeface="Times New Roman"/>
              </a:rPr>
              <a:t>Нарушение </a:t>
            </a:r>
            <a:r>
              <a:rPr b="0" lang="ru-RU" sz="2000" spc="-1" strike="noStrike">
                <a:solidFill>
                  <a:srgbClr val="000000"/>
                </a:solidFill>
                <a:latin typeface="Segoe UI"/>
                <a:ea typeface="Times New Roman"/>
              </a:rPr>
              <a:t>мозгового кровообращения или гибель нервных клеток из-за сдавливания может произойти в результате заболеваний, связанных с </a:t>
            </a:r>
            <a:r>
              <a:rPr b="1" lang="ru-RU" sz="2000" spc="-1" strike="noStrike">
                <a:solidFill>
                  <a:srgbClr val="000000"/>
                </a:solidFill>
                <a:latin typeface="Segoe UI"/>
                <a:ea typeface="Times New Roman"/>
              </a:rPr>
              <a:t>опухолями</a:t>
            </a:r>
            <a:r>
              <a:rPr b="0" lang="ru-RU" sz="2000" spc="-1" strike="noStrike">
                <a:solidFill>
                  <a:srgbClr val="000000"/>
                </a:solidFill>
                <a:latin typeface="Segoe UI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pic>
        <p:nvPicPr>
          <p:cNvPr id="510" name="Picture 3" descr=""/>
          <p:cNvPicPr/>
          <p:nvPr/>
        </p:nvPicPr>
        <p:blipFill>
          <a:blip r:embed="rId3"/>
          <a:stretch/>
        </p:blipFill>
        <p:spPr>
          <a:xfrm>
            <a:off x="4721400" y="0"/>
            <a:ext cx="4422600" cy="5937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12" name="Rectangle 2"/>
          <p:cNvSpPr/>
          <p:nvPr/>
        </p:nvSpPr>
        <p:spPr>
          <a:xfrm>
            <a:off x="-108000" y="-12600"/>
            <a:ext cx="9252000" cy="4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b3305"/>
                </a:solidFill>
                <a:latin typeface="Segoe UI"/>
                <a:ea typeface="Segoe UI"/>
              </a:rPr>
              <a:t>Опухоль головного мозга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13" name="AutoShape 3"/>
          <p:cNvSpPr/>
          <p:nvPr/>
        </p:nvSpPr>
        <p:spPr>
          <a:xfrm>
            <a:off x="2627280" y="915840"/>
            <a:ext cx="4281480" cy="1057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03b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Segoe UI"/>
                <a:ea typeface="Segoe UI"/>
              </a:rPr>
              <a:t>Предполагаемые причины возникновения опухолей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14" name="Rectangle 4"/>
          <p:cNvSpPr/>
          <p:nvPr/>
        </p:nvSpPr>
        <p:spPr>
          <a:xfrm>
            <a:off x="2627280" y="2139840"/>
            <a:ext cx="4572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воздействие винилхлорида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воздействие аспартама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воздействие электромагнитных полей.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2" descr=""/>
          <p:cNvPicPr/>
          <p:nvPr/>
        </p:nvPicPr>
        <p:blipFill>
          <a:blip r:embed="rId3"/>
          <a:stretch/>
        </p:blipFill>
        <p:spPr>
          <a:xfrm>
            <a:off x="1440" y="0"/>
            <a:ext cx="9145800" cy="6859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2" descr=""/>
          <p:cNvPicPr/>
          <p:nvPr/>
        </p:nvPicPr>
        <p:blipFill>
          <a:blip r:embed="rId3"/>
          <a:stretch/>
        </p:blipFill>
        <p:spPr>
          <a:xfrm>
            <a:off x="0" y="-380880"/>
            <a:ext cx="9180360" cy="6121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2" descr=""/>
          <p:cNvPicPr/>
          <p:nvPr/>
        </p:nvPicPr>
        <p:blipFill>
          <a:blip r:embed="rId3"/>
          <a:stretch/>
        </p:blipFill>
        <p:spPr>
          <a:xfrm>
            <a:off x="-36360" y="-853920"/>
            <a:ext cx="9180360" cy="612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1" descr=""/>
          <p:cNvPicPr/>
          <p:nvPr/>
        </p:nvPicPr>
        <p:blipFill>
          <a:blip r:embed="rId1"/>
          <a:stretch/>
        </p:blipFill>
        <p:spPr>
          <a:xfrm>
            <a:off x="1353960" y="141120"/>
            <a:ext cx="6502680" cy="4876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2" descr=""/>
          <p:cNvPicPr/>
          <p:nvPr/>
        </p:nvPicPr>
        <p:blipFill>
          <a:blip r:embed="rId3"/>
          <a:stretch/>
        </p:blipFill>
        <p:spPr>
          <a:xfrm>
            <a:off x="-25560" y="-36360"/>
            <a:ext cx="9169560" cy="609732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3"/>
          <p:cNvSpPr/>
          <p:nvPr/>
        </p:nvSpPr>
        <p:spPr>
          <a:xfrm>
            <a:off x="539640" y="555480"/>
            <a:ext cx="457200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egoe UI"/>
                <a:ea typeface="Times New Roman"/>
              </a:rPr>
              <a:t>Лёгкое сотрясение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головного 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2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мозга может проявляться 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2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сонливостью, вялостью и тошнотой.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25" name="AutoShape 2"/>
          <p:cNvSpPr/>
          <p:nvPr/>
        </p:nvSpPr>
        <p:spPr>
          <a:xfrm>
            <a:off x="2709720" y="195120"/>
            <a:ext cx="4281480" cy="1059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03b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Segoe UI"/>
                <a:ea typeface="Segoe UI"/>
              </a:rPr>
              <a:t>Признаки сотрясения мозга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2709720" y="1419120"/>
            <a:ext cx="4572000" cy="21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потеря сознания, 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рвота,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ретроградная амнезия </a:t>
            </a:r>
            <a:r>
              <a:rPr b="0" i="1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(когда человек не может вспомнить события, предшествующие травме).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2"/>
          <p:cNvSpPr/>
          <p:nvPr/>
        </p:nvSpPr>
        <p:spPr>
          <a:xfrm>
            <a:off x="395280" y="771480"/>
            <a:ext cx="3529080" cy="35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При сотрясении головного мозга или его ушибе в первую очередь необходимо: 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15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уложить на кровать или кушетку, 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15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приложить на лоб тряпочку, смоченную холодной водой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15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— </a:t>
            </a:r>
            <a:r>
              <a:rPr b="0" lang="en-US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немедленно доставить пострадавшего в больницу.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pic>
        <p:nvPicPr>
          <p:cNvPr id="529" name="Picture 3" descr=""/>
          <p:cNvPicPr/>
          <p:nvPr/>
        </p:nvPicPr>
        <p:blipFill>
          <a:blip r:embed="rId3"/>
          <a:stretch/>
        </p:blipFill>
        <p:spPr>
          <a:xfrm>
            <a:off x="4211640" y="0"/>
            <a:ext cx="7715160" cy="5143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2" descr=""/>
          <p:cNvPicPr/>
          <p:nvPr/>
        </p:nvPicPr>
        <p:blipFill>
          <a:blip r:embed="rId3"/>
          <a:stretch/>
        </p:blipFill>
        <p:spPr>
          <a:xfrm>
            <a:off x="1763640" y="771480"/>
            <a:ext cx="5045040" cy="408960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3"/>
          <p:cNvSpPr/>
          <p:nvPr/>
        </p:nvSpPr>
        <p:spPr>
          <a:xfrm>
            <a:off x="0" y="0"/>
            <a:ext cx="9161640" cy="4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b3305"/>
                </a:solidFill>
                <a:latin typeface="Segoe UI"/>
                <a:ea typeface="Segoe UI"/>
              </a:rPr>
              <a:t>Ушиб мозга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34" name="Rectangle 2"/>
          <p:cNvSpPr/>
          <p:nvPr/>
        </p:nvSpPr>
        <p:spPr>
          <a:xfrm>
            <a:off x="431640" y="1635120"/>
            <a:ext cx="45720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egoe UI"/>
                <a:ea typeface="Times New Roman"/>
              </a:rPr>
              <a:t>Нервная система человека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— это одна из самых важных систем организма, которая отвечает за действие и координацию всех систем и органов.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pic>
        <p:nvPicPr>
          <p:cNvPr id="535" name="Picture 3" descr=""/>
          <p:cNvPicPr/>
          <p:nvPr/>
        </p:nvPicPr>
        <p:blipFill>
          <a:blip r:embed="rId3"/>
          <a:stretch/>
        </p:blipFill>
        <p:spPr>
          <a:xfrm>
            <a:off x="5003640" y="184320"/>
            <a:ext cx="3229200" cy="4775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2" descr=""/>
          <p:cNvPicPr/>
          <p:nvPr/>
        </p:nvPicPr>
        <p:blipFill>
          <a:blip r:embed="rId3"/>
          <a:stretch/>
        </p:blipFill>
        <p:spPr>
          <a:xfrm>
            <a:off x="0" y="-165240"/>
            <a:ext cx="9144000" cy="6072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2" descr=""/>
          <p:cNvPicPr/>
          <p:nvPr/>
        </p:nvPicPr>
        <p:blipFill>
          <a:blip r:embed="rId3"/>
          <a:stretch/>
        </p:blipFill>
        <p:spPr>
          <a:xfrm>
            <a:off x="-7920" y="-401760"/>
            <a:ext cx="9151920" cy="6100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2" descr=""/>
          <p:cNvPicPr/>
          <p:nvPr/>
        </p:nvPicPr>
        <p:blipFill>
          <a:blip r:embed="rId3"/>
          <a:stretch/>
        </p:blipFill>
        <p:spPr>
          <a:xfrm>
            <a:off x="0" y="-45252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3"/>
          <p:cNvSpPr/>
          <p:nvPr/>
        </p:nvSpPr>
        <p:spPr>
          <a:xfrm>
            <a:off x="-324000" y="123840"/>
            <a:ext cx="5904000" cy="237636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43" name="Rectangle 4"/>
          <p:cNvSpPr/>
          <p:nvPr/>
        </p:nvSpPr>
        <p:spPr>
          <a:xfrm>
            <a:off x="900000" y="411120"/>
            <a:ext cx="45720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egoe UI"/>
                <a:ea typeface="Times New Roman"/>
              </a:rPr>
              <a:t>Профилактика заболеваний нервной системы должна занимать не последнее место в жизни каждого.</a:t>
            </a:r>
            <a:endParaRPr b="0" lang="en-US" sz="24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45" name="AutoShape 2"/>
          <p:cNvSpPr/>
          <p:nvPr/>
        </p:nvSpPr>
        <p:spPr>
          <a:xfrm>
            <a:off x="2625840" y="361800"/>
            <a:ext cx="4279680" cy="1057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03b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Segoe UI"/>
                <a:ea typeface="Segoe UI"/>
              </a:rPr>
              <a:t>Профилактика заболеваний нервной системы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2611440" y="1527120"/>
            <a:ext cx="4572000" cy="29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правильное питание и здоровый образ жизни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отказ от вредных привычек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использование необходимых средств защиты,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Segoe UI"/>
                <a:ea typeface="Segoe UI"/>
              </a:rPr>
              <a:t>своевременное лечение на ранних стадиях.</a:t>
            </a: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415" name="Group 2"/>
          <p:cNvGrpSpPr/>
          <p:nvPr/>
        </p:nvGrpSpPr>
        <p:grpSpPr>
          <a:xfrm>
            <a:off x="573120" y="1893960"/>
            <a:ext cx="3182760" cy="1828800"/>
            <a:chOff x="573120" y="1893960"/>
            <a:chExt cx="3182760" cy="1828800"/>
          </a:xfrm>
        </p:grpSpPr>
        <p:sp>
          <p:nvSpPr>
            <p:cNvPr id="416" name="Line 3"/>
            <p:cNvSpPr/>
            <p:nvPr/>
          </p:nvSpPr>
          <p:spPr>
            <a:xfrm flipH="1">
              <a:off x="2303280" y="1893960"/>
              <a:ext cx="1292040" cy="976320"/>
            </a:xfrm>
            <a:prstGeom prst="line">
              <a:avLst/>
            </a:prstGeom>
            <a:ln w="6480">
              <a:solidFill>
                <a:srgbClr val="603b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  <p:sp>
          <p:nvSpPr>
            <p:cNvPr id="417" name="AutoShape 4"/>
            <p:cNvSpPr/>
            <p:nvPr/>
          </p:nvSpPr>
          <p:spPr>
            <a:xfrm>
              <a:off x="573120" y="2863800"/>
              <a:ext cx="3182760" cy="858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158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Врождённые </a:t>
              </a:r>
              <a:endParaRPr b="0" lang="en-US" sz="20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grpSp>
        <p:nvGrpSpPr>
          <p:cNvPr id="418" name="Group 5"/>
          <p:cNvGrpSpPr/>
          <p:nvPr/>
        </p:nvGrpSpPr>
        <p:grpSpPr>
          <a:xfrm>
            <a:off x="5432400" y="1792440"/>
            <a:ext cx="3005280" cy="1871640"/>
            <a:chOff x="5432400" y="1792440"/>
            <a:chExt cx="3005280" cy="1871640"/>
          </a:xfrm>
        </p:grpSpPr>
        <p:sp>
          <p:nvSpPr>
            <p:cNvPr id="419" name="AutoShape 6"/>
            <p:cNvSpPr/>
            <p:nvPr/>
          </p:nvSpPr>
          <p:spPr>
            <a:xfrm>
              <a:off x="5432400" y="2803680"/>
              <a:ext cx="3005280" cy="860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158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Приобретённые</a:t>
              </a:r>
              <a:endParaRPr b="0" lang="en-US" sz="20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  <p:sp>
          <p:nvSpPr>
            <p:cNvPr id="420" name="Line 7"/>
            <p:cNvSpPr/>
            <p:nvPr/>
          </p:nvSpPr>
          <p:spPr>
            <a:xfrm>
              <a:off x="5560920" y="1792440"/>
              <a:ext cx="1292400" cy="1004760"/>
            </a:xfrm>
            <a:prstGeom prst="line">
              <a:avLst/>
            </a:prstGeom>
            <a:ln w="6480">
              <a:solidFill>
                <a:srgbClr val="603b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sp>
        <p:nvSpPr>
          <p:cNvPr id="421" name="AutoShape 8"/>
          <p:cNvSpPr/>
          <p:nvPr/>
        </p:nvSpPr>
        <p:spPr>
          <a:xfrm>
            <a:off x="2763720" y="1338120"/>
            <a:ext cx="3529080" cy="129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03b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Segoe UI"/>
                <a:ea typeface="Segoe UI"/>
              </a:rPr>
              <a:t>Поражение нервной системы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"/>
          <p:cNvPicPr/>
          <p:nvPr/>
        </p:nvPicPr>
        <p:blipFill>
          <a:blip r:embed="rId3"/>
          <a:stretch/>
        </p:blipFill>
        <p:spPr>
          <a:xfrm>
            <a:off x="539640" y="339840"/>
            <a:ext cx="3240360" cy="25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24" name="Rectangle 3"/>
          <p:cNvSpPr/>
          <p:nvPr/>
        </p:nvSpPr>
        <p:spPr>
          <a:xfrm>
            <a:off x="687240" y="3286080"/>
            <a:ext cx="7632720" cy="15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5c84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pic>
        <p:nvPicPr>
          <p:cNvPr id="425" name="Picture 4" descr=""/>
          <p:cNvPicPr/>
          <p:nvPr/>
        </p:nvPicPr>
        <p:blipFill>
          <a:blip r:embed="rId4"/>
          <a:stretch/>
        </p:blipFill>
        <p:spPr>
          <a:xfrm>
            <a:off x="684360" y="3292560"/>
            <a:ext cx="1557360" cy="155736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5"/>
          <p:cNvSpPr/>
          <p:nvPr/>
        </p:nvSpPr>
        <p:spPr>
          <a:xfrm>
            <a:off x="2409840" y="3413160"/>
            <a:ext cx="5740560" cy="12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Segoe UI Semibold"/>
                <a:ea typeface="Times New Roman"/>
              </a:rPr>
              <a:t>Гидроцефалия </a:t>
            </a:r>
            <a:r>
              <a:rPr b="0" lang="ru-RU" sz="1400" spc="-1" strike="noStrike">
                <a:solidFill>
                  <a:srgbClr val="000000"/>
                </a:solidFill>
                <a:latin typeface="Segoe UI"/>
                <a:ea typeface="Times New Roman"/>
              </a:rPr>
              <a:t>—– </a:t>
            </a:r>
            <a:r>
              <a:rPr b="0" lang="ru-RU" sz="2000" spc="-1" strike="noStrike">
                <a:solidFill>
                  <a:srgbClr val="000000"/>
                </a:solidFill>
                <a:latin typeface="Segoe UI"/>
                <a:ea typeface="Segoe UI"/>
              </a:rPr>
              <a:t>увеличение объёма мозга из-за нарушения оттока из него спинномозговой жидкости.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  <p:pic>
        <p:nvPicPr>
          <p:cNvPr id="427" name="Picture 6" descr=""/>
          <p:cNvPicPr/>
          <p:nvPr/>
        </p:nvPicPr>
        <p:blipFill>
          <a:blip r:embed="rId5"/>
          <a:stretch/>
        </p:blipFill>
        <p:spPr>
          <a:xfrm>
            <a:off x="4427640" y="268200"/>
            <a:ext cx="3533760" cy="2664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1"/>
          <p:cNvSpPr/>
          <p:nvPr/>
        </p:nvSpPr>
        <p:spPr>
          <a:xfrm>
            <a:off x="1042920" y="3363840"/>
            <a:ext cx="698508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икроцефали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недоразвитие мозга, когда его масса не достигает 1 кг.</a:t>
            </a:r>
            <a:endParaRPr b="0" lang="en-US" sz="24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egoe UI Symbol"/>
            </a:endParaRPr>
          </a:p>
        </p:txBody>
      </p:sp>
      <p:pic>
        <p:nvPicPr>
          <p:cNvPr id="431" name="Picture 4" descr=""/>
          <p:cNvPicPr/>
          <p:nvPr/>
        </p:nvPicPr>
        <p:blipFill>
          <a:blip r:embed="rId2"/>
          <a:stretch/>
        </p:blipFill>
        <p:spPr>
          <a:xfrm>
            <a:off x="2987640" y="627120"/>
            <a:ext cx="3672000" cy="244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433" name="Group 2"/>
          <p:cNvGrpSpPr/>
          <p:nvPr/>
        </p:nvGrpSpPr>
        <p:grpSpPr>
          <a:xfrm>
            <a:off x="880920" y="192240"/>
            <a:ext cx="2608200" cy="1439280"/>
            <a:chOff x="880920" y="192240"/>
            <a:chExt cx="2608200" cy="1439280"/>
          </a:xfrm>
        </p:grpSpPr>
        <p:sp>
          <p:nvSpPr>
            <p:cNvPr id="434" name="Line 3"/>
            <p:cNvSpPr/>
            <p:nvPr/>
          </p:nvSpPr>
          <p:spPr>
            <a:xfrm flipH="1" flipV="1">
              <a:off x="2267280" y="672480"/>
              <a:ext cx="1221840" cy="959040"/>
            </a:xfrm>
            <a:prstGeom prst="line">
              <a:avLst/>
            </a:prstGeom>
            <a:ln w="6480">
              <a:solidFill>
                <a:srgbClr val="603b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  <p:sp>
          <p:nvSpPr>
            <p:cNvPr id="435" name="AutoShape 4"/>
            <p:cNvSpPr/>
            <p:nvPr/>
          </p:nvSpPr>
          <p:spPr>
            <a:xfrm>
              <a:off x="880920" y="192240"/>
              <a:ext cx="2244960" cy="1084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158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Инфекционные заболевания</a:t>
              </a: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grpSp>
        <p:nvGrpSpPr>
          <p:cNvPr id="436" name="Group 5"/>
          <p:cNvGrpSpPr/>
          <p:nvPr/>
        </p:nvGrpSpPr>
        <p:grpSpPr>
          <a:xfrm>
            <a:off x="5219640" y="239760"/>
            <a:ext cx="2373480" cy="1535760"/>
            <a:chOff x="5219640" y="239760"/>
            <a:chExt cx="2373480" cy="1535760"/>
          </a:xfrm>
        </p:grpSpPr>
        <p:sp>
          <p:nvSpPr>
            <p:cNvPr id="437" name="Line 6"/>
            <p:cNvSpPr/>
            <p:nvPr/>
          </p:nvSpPr>
          <p:spPr>
            <a:xfrm flipV="1">
              <a:off x="5610240" y="673560"/>
              <a:ext cx="1074600" cy="1101960"/>
            </a:xfrm>
            <a:prstGeom prst="line">
              <a:avLst/>
            </a:prstGeom>
            <a:ln w="6480">
              <a:solidFill>
                <a:srgbClr val="603b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  <p:sp>
          <p:nvSpPr>
            <p:cNvPr id="438" name="AutoShape 7"/>
            <p:cNvSpPr/>
            <p:nvPr/>
          </p:nvSpPr>
          <p:spPr>
            <a:xfrm>
              <a:off x="5219640" y="239760"/>
              <a:ext cx="2373480" cy="1038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158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Сотрясения </a:t>
              </a:r>
              <a:endParaRPr b="0" lang="en-US" sz="2000" spc="-1" strike="noStrike">
                <a:solidFill>
                  <a:srgbClr val="ffffff"/>
                </a:solidFill>
                <a:latin typeface="Segoe UI Symbol"/>
              </a:endParaRPr>
            </a:p>
            <a:p>
              <a:pPr algn="ctr">
                <a:lnSpc>
                  <a:spcPct val="100000"/>
                </a:lnSpc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головного мозга</a:t>
              </a: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grpSp>
        <p:nvGrpSpPr>
          <p:cNvPr id="439" name="Group 8"/>
          <p:cNvGrpSpPr/>
          <p:nvPr/>
        </p:nvGrpSpPr>
        <p:grpSpPr>
          <a:xfrm>
            <a:off x="1006560" y="3076560"/>
            <a:ext cx="2407680" cy="1724040"/>
            <a:chOff x="1006560" y="3076560"/>
            <a:chExt cx="2407680" cy="1724040"/>
          </a:xfrm>
        </p:grpSpPr>
        <p:sp>
          <p:nvSpPr>
            <p:cNvPr id="440" name="Line 9"/>
            <p:cNvSpPr/>
            <p:nvPr/>
          </p:nvSpPr>
          <p:spPr>
            <a:xfrm flipH="1">
              <a:off x="2303280" y="3076560"/>
              <a:ext cx="1110960" cy="1009800"/>
            </a:xfrm>
            <a:prstGeom prst="line">
              <a:avLst/>
            </a:prstGeom>
            <a:ln w="6480">
              <a:solidFill>
                <a:srgbClr val="603b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  <p:sp>
          <p:nvSpPr>
            <p:cNvPr id="441" name="AutoShape 10"/>
            <p:cNvSpPr/>
            <p:nvPr/>
          </p:nvSpPr>
          <p:spPr>
            <a:xfrm>
              <a:off x="1006560" y="3746520"/>
              <a:ext cx="2333520" cy="1054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158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Вредные привычки</a:t>
              </a:r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grpSp>
        <p:nvGrpSpPr>
          <p:cNvPr id="442" name="Group 11"/>
          <p:cNvGrpSpPr/>
          <p:nvPr/>
        </p:nvGrpSpPr>
        <p:grpSpPr>
          <a:xfrm>
            <a:off x="5468760" y="3032280"/>
            <a:ext cx="2772000" cy="1676160"/>
            <a:chOff x="5468760" y="3032280"/>
            <a:chExt cx="2772000" cy="1676160"/>
          </a:xfrm>
        </p:grpSpPr>
        <p:sp>
          <p:nvSpPr>
            <p:cNvPr id="443" name="Line 12"/>
            <p:cNvSpPr/>
            <p:nvPr/>
          </p:nvSpPr>
          <p:spPr>
            <a:xfrm>
              <a:off x="5508720" y="3032280"/>
              <a:ext cx="1251000" cy="1082520"/>
            </a:xfrm>
            <a:prstGeom prst="line">
              <a:avLst/>
            </a:prstGeom>
            <a:ln w="6480">
              <a:solidFill>
                <a:srgbClr val="603b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  <p:sp>
          <p:nvSpPr>
            <p:cNvPr id="444" name="AutoShape 13"/>
            <p:cNvSpPr/>
            <p:nvPr/>
          </p:nvSpPr>
          <p:spPr>
            <a:xfrm>
              <a:off x="5468760" y="3774960"/>
              <a:ext cx="2772000" cy="933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158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6"/>
                </a:spcBef>
                <a:spcAft>
                  <a:spcPts val="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Разрывы периферических нервов</a:t>
              </a:r>
              <a:endParaRPr b="0" lang="en-US" sz="2000" spc="-1" strike="noStrike">
                <a:solidFill>
                  <a:srgbClr val="ffffff"/>
                </a:solidFill>
                <a:latin typeface="Segoe UI Symbol"/>
              </a:endParaRPr>
            </a:p>
          </p:txBody>
        </p:sp>
      </p:grpSp>
      <p:sp>
        <p:nvSpPr>
          <p:cNvPr id="445" name="AutoShape 14"/>
          <p:cNvSpPr/>
          <p:nvPr/>
        </p:nvSpPr>
        <p:spPr>
          <a:xfrm>
            <a:off x="2535120" y="1585800"/>
            <a:ext cx="3989520" cy="1708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03b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Segoe UI"/>
                <a:ea typeface="Segoe UI"/>
              </a:rPr>
              <a:t>Приобретённые заболевания центральной нервной системы</a:t>
            </a:r>
            <a:endParaRPr b="0" lang="en-US" sz="2000" spc="-1" strike="noStrike">
              <a:solidFill>
                <a:srgbClr val="ffffff"/>
              </a:solidFill>
              <a:latin typeface="Segoe UI Symbol"/>
            </a:endParaRPr>
          </a:p>
        </p:txBody>
      </p:sp>
    </p:spTree>
  </p:cSld>
  <p:transition spd="med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2" descr=""/>
          <p:cNvPicPr/>
          <p:nvPr/>
        </p:nvPicPr>
        <p:blipFill>
          <a:blip r:embed="rId3"/>
          <a:stretch/>
        </p:blipFill>
        <p:spPr>
          <a:xfrm>
            <a:off x="0" y="-8571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2"/>
          <p:cNvSpPr/>
          <p:nvPr/>
        </p:nvSpPr>
        <p:spPr>
          <a:xfrm>
            <a:off x="531720" y="1380960"/>
            <a:ext cx="4572000" cy="32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UI"/>
                <a:ea typeface="Times New Roman"/>
              </a:rPr>
              <a:t>К инфекционным</a:t>
            </a:r>
            <a:endParaRPr b="0" lang="en-US" sz="2800" spc="-1" strike="noStrike">
              <a:solidFill>
                <a:srgbClr val="ffffff"/>
              </a:solidFill>
              <a:latin typeface="Segoe UI Symbol"/>
            </a:endParaRPr>
          </a:p>
          <a:p>
            <a:pPr>
              <a:lnSpc>
                <a:spcPct val="12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egoe UI"/>
                <a:ea typeface="Times New Roman"/>
              </a:rPr>
              <a:t>болезням относятся менингит, энцефалит, корь, ветрянка, свинка, герпес, краснуха, бешенство, полиомиелит и многие другие.</a:t>
            </a:r>
            <a:endParaRPr b="0" lang="en-US" sz="2400" spc="-1" strike="noStrike">
              <a:solidFill>
                <a:srgbClr val="ffffff"/>
              </a:solidFill>
              <a:latin typeface="Segoe UI Symbol"/>
            </a:endParaRPr>
          </a:p>
        </p:txBody>
      </p:sp>
      <p:pic>
        <p:nvPicPr>
          <p:cNvPr id="450" name="Picture 3" descr=""/>
          <p:cNvPicPr/>
          <p:nvPr/>
        </p:nvPicPr>
        <p:blipFill>
          <a:blip r:embed="rId3"/>
          <a:stretch/>
        </p:blipFill>
        <p:spPr>
          <a:xfrm>
            <a:off x="5602320" y="0"/>
            <a:ext cx="3541680" cy="6296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0T07:01:35Z</dcterms:created>
  <dc:creator>Пользователь</dc:creator>
  <dc:description/>
  <dc:language>en-US</dc:language>
  <cp:lastModifiedBy>Роман</cp:lastModifiedBy>
  <dcterms:modified xsi:type="dcterms:W3CDTF">2023-10-31T08:30:37Z</dcterms:modified>
  <cp:revision>1250</cp:revision>
  <dc:subject/>
  <dc:title>Презентация PowerPoint</dc:title>
</cp:coreProperties>
</file>