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14.jpeg" ContentType="image/jpeg"/>
  <Override PartName="/ppt/media/image39.jpeg" ContentType="image/jpeg"/>
  <Override PartName="/ppt/media/image8.png" ContentType="image/png"/>
  <Override PartName="/ppt/media/image31.png" ContentType="image/png"/>
  <Override PartName="/ppt/media/image6.png" ContentType="image/png"/>
  <Override PartName="/ppt/media/image36.jpeg" ContentType="image/jpeg"/>
  <Override PartName="/ppt/media/image38.jpeg" ContentType="image/jpeg"/>
  <Override PartName="/ppt/media/image44.jpeg" ContentType="image/jpeg"/>
  <Override PartName="/ppt/media/image41.png" ContentType="image/png"/>
  <Override PartName="/ppt/media/image42.jpeg" ContentType="image/jpeg"/>
  <Override PartName="/ppt/media/image34.jpeg" ContentType="image/jpeg"/>
  <Override PartName="/ppt/media/image7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dt" idx="19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ldImg"/>
          </p:nvPr>
        </p:nvSpPr>
        <p:spPr>
          <a:xfrm>
            <a:off x="685440" y="1143000"/>
            <a:ext cx="5483160" cy="308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body"/>
          </p:nvPr>
        </p:nvSpPr>
        <p:spPr>
          <a:xfrm>
            <a:off x="685440" y="4400640"/>
            <a:ext cx="548316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0"/>
          </p:nvPr>
        </p:nvSpPr>
        <p:spPr>
          <a:xfrm>
            <a:off x="3884760" y="8685000"/>
            <a:ext cx="2968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947553-F8DB-4AA8-B02F-6BB9C9E094A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D44EF7-0E09-49D7-87AB-AB24ACC5554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B44642-FEA6-451A-8D7E-D4B4483B477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79DCCB-C0B8-42C5-B5AD-395F23CAB68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E4EB79-5818-4967-A1D2-1F152BD8B23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E668EC-8026-4055-81AA-D351419B1F8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7304FC-4F8C-42DF-AF66-D8416841250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102676-5E17-46C7-BAA7-03956070FA7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46B595-0312-41A2-B035-00F7AEAFB8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7F2FBB-BD87-4854-8B4B-E66D5200CA3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56DB50-37BE-4F91-86B9-094C64875A6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5D7108-9806-4B45-9127-D355E06AAB6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F1D7B8-186D-4706-8200-77C4C444DA0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E007B9-5188-4DA9-852D-478D54F4473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2F41EC-12EC-4D39-BE62-8A69037D510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76E984-4891-4BEA-B918-BE3B4503F8F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ECA7F3-3E2C-482C-94EF-93416227263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1ECD32-144C-4607-A858-7CB0AD5F886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B23466-8562-425E-8AE2-A5DA1E6D8CA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4E3EC7-C524-49F9-B44B-FE2A407F9A8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964460-C546-40C3-9D35-02B604EEDA2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C75A9D-9FB2-43E9-87AC-6F1F40E6202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AB3550-CFFC-440E-9C37-4575AC39ACC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DD495D-A1B9-4BD2-9513-24CE6BC318A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DB6468-98CA-4468-BD9E-C121628627A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1720" cy="30844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38DD99-7ED7-47B4-8C55-F41DFC2553A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391EE3-95DD-41EA-BDF2-66C64D6006A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55DBC6-7360-49BE-8218-5622E309F3D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418B1C-40E5-4AC1-9D5C-F7DB6F86C25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88A332-DF8C-48BC-8519-6A79AE60E71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D9B653-1286-4CAF-8CAB-8EB67E98A4B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609973-8917-4852-8B56-EFFE617BCD9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1BD479-ABB5-455C-BC66-90354505D22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73FC80-0A12-4555-83D2-B69671A9014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8CFE26-5CD7-4E70-A8D6-CCE1132373B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B48FCF-4950-4FBE-BE99-7751B311942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CEADF0-CE3D-4457-B527-149C6E65132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76C445-B98B-4D66-BE8F-F1C17AA41E8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7092F3-79F7-48BC-9F46-1AF67002B93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3C934C-2F29-4303-BED3-806BA314177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4EA75-D531-4F6A-8AF8-55548AA2E2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52952-068D-44C6-AF61-183BA4F2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C0C8D-EE1E-49A6-BA5F-FDC42549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F0D12-5B77-4092-B4AE-E13B75BE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BE53C-A6B8-4CC8-B56F-9B3FCAEF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80C1F-2BBC-4C54-B0E6-57BFC7ED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91126-5EF0-41C8-9B04-19FDD64C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F69FD-1890-4A50-BEA2-6A40624C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A2FEA-8020-4020-A139-30B776EE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176DA-D2E7-4D0C-BFA5-9F7FB0D6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B04F1-C77B-4F46-8304-50E2F208E0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6115A-4B2E-4528-9B2F-38FB47AD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A8F13-5DF6-478A-9821-EA49402991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67FF9-3D84-44C9-9056-2482E926B9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FE931-42D3-432A-85D0-CE6A6459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1F70B-4196-498A-B9FC-3DFB647A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3802A-091F-4D7E-9195-460C0EEB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6AAE9-1C7D-4CCF-918B-EB39464B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B5C32-E192-4F87-BF53-1CEDE752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A5584-5E8F-4BDE-8239-A2B5D5CD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84591-BDF7-4B24-9AE3-ACFEE829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F8419-09C4-4D07-BD1A-5B00C823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0512D-45C2-47C0-B3D8-CEA168A6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B1BBF-9245-4953-B643-C945FCF6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566B2-4FD9-417E-B907-47829EBB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562FD-3860-4D25-BDE9-E924CE4672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8F1F-F1CE-4B95-8E09-91299781BF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0C7D-0BEC-40E5-9E7A-C6F65327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2909-AFE8-47F2-AF55-0E6897B5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7FA1-84E2-47A3-8C70-CB1CA7AA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3D61-99D2-4938-9D46-0393CCF6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35CD0-EE59-467C-AE72-DC33B369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4137-F89F-4DE7-878A-DFF8AD7D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2FEA-E32E-4432-B9CB-0CF4E324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0C3A-8902-4CF9-B4F4-AD5BB224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117F-D69D-4C8C-8D18-5D641DB1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4D98-47EC-44AD-BD1A-F093881C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C10C-C648-4951-BD7C-3F251283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8DCB-CE40-4C78-94CC-5C97A26131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7D848-7C14-4D07-9110-F86290BD42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D7322-86C5-49F9-A12D-0123E793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C4702-1C9B-4347-A468-3066F191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85E35-03E8-425A-A2A0-34D81022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793DC-B1EB-42EF-8983-3D9F38E8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D78E9-B168-4C24-82C6-887A9813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5315E-EF07-43AB-A8B5-57AC1895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A3643-5D4A-4804-A14F-F862B764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883A6-A08E-46FA-AD52-E2784136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14E64-4EC6-4BB4-8065-CE293FFC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C95B8-7248-43C5-BF4F-13EC78B1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56086-17B0-4298-A152-9C2283F2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A0F6D-9D4C-4E12-8233-BC320ADB85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28735D-13B7-4B87-B516-1D31998BDD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F8F6-0989-4A70-B479-C253CCCB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A32CB4-EED4-4110-B27E-5E710E68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B2F5E1-931C-4CE0-8057-CEDA8D95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8B7F61-8F33-448D-B72B-3D7EA45A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EE1976-6999-4065-97BC-B19F4C15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3D71D8-DE82-4FFC-8963-6EF3F368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C21E2B-BB92-418A-AFFF-3873267B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8F868B-0759-4266-BCD6-2722BF61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07B469-CA2C-48F0-AEC3-1EE9EC49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6F1F94-83B0-411C-9966-A25AFA06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E4256F-809B-4BCE-93EC-149ED04C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F10D-9E1E-492E-958F-657A6D36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1E1DAE-4D03-49F0-B5AD-3BB0158B70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A1E6F-B746-47F3-B4B9-42D8500048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30441-D0CD-46F2-BF3C-2669D59F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69E72-558E-471A-B084-BBE724A0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124AC-7CA9-4BBA-AC16-02BAD08A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5B8DD-2988-427E-B65E-D1F46FD8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67838-BEC6-499D-9497-2F384408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9BF1C-D150-487C-B8B4-31A37412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FA1FD-38D8-4427-BE3D-E75F8BE9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B84C5-78FA-482A-A0FF-6CB6EF53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E173-42D3-4425-AB90-47F11299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A6ADF-0711-4244-98DA-A0172CF2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79712-50E4-400C-ACCF-99E77737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C3EFF-1993-44B2-BDBC-67E1F04E9E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54CCA2-1B41-4830-B1D6-E6BD5063ED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44CF4-921D-470E-980D-4BAB22FB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2D630C-188F-4BCC-BFCE-C9E8BBD0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072D31-E421-4F07-AD55-F5CBF4EB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0E744-86DB-4DC9-B823-B79BDC88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D6681-1EC8-4B32-B577-4D6DCBF5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95CCA-D3D2-453D-BC2A-59C867E9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D45EB-55DF-423C-B69B-B098A8D6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B89AFD-8557-4E56-8F1B-A4C243A6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5C0B4-50D9-457F-91D2-6CDBA4EC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08310-B721-45EA-9D37-DC848F72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BA367C-BBDF-4DB9-A2CC-D97E2892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B510C-C8DA-46F1-A257-FC0C22651E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46A412-710B-4952-8AA2-14FBD2A67E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816221-AFAB-4BD2-B467-91921F0A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7977D2-3442-4C9E-9D57-523D58B1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952163-D553-4E4F-BB50-62907DA5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FC6479-A1F0-4756-B00B-DBDB3813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305CD-6B15-46F3-9585-1A6BFB05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33143E-9C60-4561-BE4D-C9D15965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8E1F6C-C4D6-4CA9-9F0D-BD672156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CBD84E-5FC6-46AD-9E11-AD6F7F7B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8E263C-F82D-45EA-9DCC-64C4AE6D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9BA303-B9C2-41EC-A68D-EBE4C7E0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CC374F-38A1-4768-8B49-46A3A82D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78F3B3-5CE0-4D56-A95B-5F75CF1851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BDBD8-6929-4705-A4FE-A914FE856F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C24B4-3B0B-410D-BCA8-70C0A32C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8707B-92A7-40DC-AE3B-636B6A67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F7005B-2929-4192-A88A-A121E3A8338B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9" name="Picture 10" descr=""/>
            <p:cNvPicPr/>
            <p:nvPr/>
          </p:nvPicPr>
          <p:blipFill>
            <a:blip r:embed="rId4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11" name="Group 12"/>
          <p:cNvGrpSpPr/>
          <p:nvPr/>
        </p:nvGrpSpPr>
        <p:grpSpPr>
          <a:xfrm>
            <a:off x="506520" y="781200"/>
            <a:ext cx="8640720" cy="20520"/>
            <a:chOff x="506520" y="781200"/>
            <a:chExt cx="8640720" cy="20520"/>
          </a:xfrm>
        </p:grpSpPr>
        <p:pic>
          <p:nvPicPr>
            <p:cNvPr id="12" name="Picture 13" descr=""/>
            <p:cNvPicPr/>
            <p:nvPr/>
          </p:nvPicPr>
          <p:blipFill>
            <a:blip r:embed="rId5"/>
            <a:stretch/>
          </p:blipFill>
          <p:spPr>
            <a:xfrm>
              <a:off x="506520" y="78120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793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506520" y="3998880"/>
            <a:ext cx="8640720" cy="20520"/>
            <a:chOff x="506520" y="3998880"/>
            <a:chExt cx="8640720" cy="20520"/>
          </a:xfrm>
        </p:grpSpPr>
        <p:pic>
          <p:nvPicPr>
            <p:cNvPr id="5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99888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4013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4855680"/>
            <a:ext cx="75564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5EB203-4B73-4F21-832E-6464A77D0592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9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98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506520" y="781200"/>
            <a:ext cx="8640720" cy="20520"/>
            <a:chOff x="506520" y="781200"/>
            <a:chExt cx="8640720" cy="20520"/>
          </a:xfrm>
        </p:grpSpPr>
        <p:pic>
          <p:nvPicPr>
            <p:cNvPr id="101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78120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514440" y="793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81280" y="57240"/>
            <a:ext cx="28958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4855680"/>
            <a:ext cx="75564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4CFDAA-ABC1-400D-B1CA-A3A80E4387ED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506520" y="2571840"/>
            <a:ext cx="8640720" cy="21960"/>
            <a:chOff x="506520" y="2571840"/>
            <a:chExt cx="8640720" cy="21960"/>
          </a:xfrm>
        </p:grpSpPr>
        <p:pic>
          <p:nvPicPr>
            <p:cNvPr id="14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2571840"/>
              <a:ext cx="8640720" cy="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2584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598760-39A8-4313-8418-D5670A6AFFF4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"/>
          <p:cNvGrpSpPr/>
          <p:nvPr/>
        </p:nvGrpSpPr>
        <p:grpSpPr>
          <a:xfrm>
            <a:off x="506520" y="4505400"/>
            <a:ext cx="8640720" cy="20520"/>
            <a:chOff x="506520" y="4505400"/>
            <a:chExt cx="8640720" cy="20520"/>
          </a:xfrm>
        </p:grpSpPr>
        <p:pic>
          <p:nvPicPr>
            <p:cNvPr id="189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450540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440" y="4514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4857480"/>
            <a:ext cx="75888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0FD96D-93F1-4A26-928D-2444F2BD4532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E871C5-FA60-4CA5-A30C-802A650332E1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"/>
          <p:cNvGrpSpPr/>
          <p:nvPr/>
        </p:nvGrpSpPr>
        <p:grpSpPr>
          <a:xfrm>
            <a:off x="506520" y="4376880"/>
            <a:ext cx="8640720" cy="20520"/>
            <a:chOff x="506520" y="4376880"/>
            <a:chExt cx="8640720" cy="20520"/>
          </a:xfrm>
        </p:grpSpPr>
        <p:pic>
          <p:nvPicPr>
            <p:cNvPr id="274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437688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"/>
            <p:cNvSpPr/>
            <p:nvPr/>
          </p:nvSpPr>
          <p:spPr>
            <a:xfrm>
              <a:off x="514440" y="438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9117C3-86B2-4EB4-9A12-D4643FDD2DD5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940C06-A514-4784-9448-877380107C8E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F10086-44A9-4251-BF12-19CD9A6AC79F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2"/>
          <a:stretch/>
        </p:blipFill>
        <p:spPr>
          <a:xfrm>
            <a:off x="438120" y="1554120"/>
            <a:ext cx="7950240" cy="14335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2"/>
          <p:cNvSpPr/>
          <p:nvPr/>
        </p:nvSpPr>
        <p:spPr>
          <a:xfrm>
            <a:off x="1911240" y="3525840"/>
            <a:ext cx="56484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2"/>
          <p:cNvSpPr/>
          <p:nvPr/>
        </p:nvSpPr>
        <p:spPr>
          <a:xfrm>
            <a:off x="0" y="0"/>
            <a:ext cx="421164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395280" y="1779480"/>
            <a:ext cx="4572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Вредные привычки </a:t>
            </a: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причина заболеваний центральной нервной системы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54" name="Picture 4" descr=""/>
          <p:cNvPicPr/>
          <p:nvPr/>
        </p:nvPicPr>
        <p:blipFill>
          <a:blip r:embed="rId3"/>
          <a:stretch/>
        </p:blipFill>
        <p:spPr>
          <a:xfrm>
            <a:off x="4211640" y="0"/>
            <a:ext cx="514332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"/>
          <p:cNvPicPr/>
          <p:nvPr/>
        </p:nvPicPr>
        <p:blipFill>
          <a:blip r:embed="rId3"/>
          <a:stretch/>
        </p:blipFill>
        <p:spPr>
          <a:xfrm>
            <a:off x="-14400" y="-839880"/>
            <a:ext cx="9158400" cy="6107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3"/>
          <a:stretch/>
        </p:blipFill>
        <p:spPr>
          <a:xfrm>
            <a:off x="-36360" y="-358920"/>
            <a:ext cx="9180360" cy="553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2"/>
          <p:cNvSpPr/>
          <p:nvPr/>
        </p:nvSpPr>
        <p:spPr>
          <a:xfrm>
            <a:off x="468360" y="1492200"/>
            <a:ext cx="388764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Отрицательное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 действие никотина на центральную нервную систему выражается вначале в её возбуждении, а затем в угнетении. 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676760" y="4280040"/>
            <a:ext cx="408456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Segoe UI"/>
              </a:rPr>
              <a:t>Никотин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62" name="Picture 4" descr=""/>
          <p:cNvPicPr/>
          <p:nvPr/>
        </p:nvPicPr>
        <p:blipFill>
          <a:blip r:embed="rId3"/>
          <a:stretch/>
        </p:blipFill>
        <p:spPr>
          <a:xfrm>
            <a:off x="4676760" y="195120"/>
            <a:ext cx="4084560" cy="408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3"/>
          <a:stretch/>
        </p:blipFill>
        <p:spPr>
          <a:xfrm>
            <a:off x="4000680" y="-1440"/>
            <a:ext cx="5143320" cy="514332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3"/>
          <p:cNvSpPr/>
          <p:nvPr/>
        </p:nvSpPr>
        <p:spPr>
          <a:xfrm>
            <a:off x="-66600" y="-11160"/>
            <a:ext cx="4067280" cy="51436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539640" y="12762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egoe UI"/>
                <a:ea typeface="Times New Roman"/>
              </a:rPr>
              <a:t>Курящие люди становятся раздражительными и легковозбудимыми, у них наруша­ется сон, аппетит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"/>
          <p:cNvPicPr/>
          <p:nvPr/>
        </p:nvPicPr>
        <p:blipFill>
          <a:blip r:embed="rId3"/>
          <a:stretch/>
        </p:blipFill>
        <p:spPr>
          <a:xfrm>
            <a:off x="-181080" y="-25560"/>
            <a:ext cx="10542600" cy="527220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-181080" y="771480"/>
            <a:ext cx="5545080" cy="280836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395280" y="1203480"/>
            <a:ext cx="4572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ередко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возникают расстройства памяти, головные боли, бессонница, дрожание рук, снижается работоспособность, ухудшается настроение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"/>
          <p:cNvPicPr/>
          <p:nvPr/>
        </p:nvPicPr>
        <p:blipFill>
          <a:blip r:embed="rId3"/>
          <a:stretch/>
        </p:blipFill>
        <p:spPr>
          <a:xfrm>
            <a:off x="4572000" y="1119240"/>
            <a:ext cx="3975120" cy="40323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4"/>
          <a:stretch/>
        </p:blipFill>
        <p:spPr>
          <a:xfrm>
            <a:off x="1173240" y="2643120"/>
            <a:ext cx="2555640" cy="1949400"/>
          </a:xfrm>
          <a:prstGeom prst="rect">
            <a:avLst/>
          </a:prstGeom>
          <a:ln w="0">
            <a:noFill/>
          </a:ln>
        </p:spPr>
      </p:pic>
      <p:grpSp>
        <p:nvGrpSpPr>
          <p:cNvPr id="474" name="Group 4"/>
          <p:cNvGrpSpPr/>
          <p:nvPr/>
        </p:nvGrpSpPr>
        <p:grpSpPr>
          <a:xfrm>
            <a:off x="1303200" y="1119240"/>
            <a:ext cx="4849920" cy="1344600"/>
            <a:chOff x="1303200" y="1119240"/>
            <a:chExt cx="4849920" cy="1344600"/>
          </a:xfrm>
        </p:grpSpPr>
        <p:pic>
          <p:nvPicPr>
            <p:cNvPr id="475" name="Picture 5" descr=""/>
            <p:cNvPicPr/>
            <p:nvPr/>
          </p:nvPicPr>
          <p:blipFill>
            <a:blip r:embed="rId5"/>
            <a:stretch/>
          </p:blipFill>
          <p:spPr>
            <a:xfrm>
              <a:off x="1303200" y="1119240"/>
              <a:ext cx="196236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6"/>
            <p:cNvSpPr/>
            <p:nvPr/>
          </p:nvSpPr>
          <p:spPr>
            <a:xfrm>
              <a:off x="3132000" y="1724040"/>
              <a:ext cx="302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этанол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77" name="Line 7"/>
            <p:cNvSpPr/>
            <p:nvPr/>
          </p:nvSpPr>
          <p:spPr>
            <a:xfrm flipH="1">
              <a:off x="2414520" y="2160720"/>
              <a:ext cx="1005120" cy="102960"/>
            </a:xfrm>
            <a:prstGeom prst="line">
              <a:avLst/>
            </a:prstGeom>
            <a:ln w="10080">
              <a:solidFill>
                <a:srgbClr val="40404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9" name="AutoShape 2"/>
          <p:cNvSpPr/>
          <p:nvPr/>
        </p:nvSpPr>
        <p:spPr>
          <a:xfrm>
            <a:off x="2600280" y="771480"/>
            <a:ext cx="394344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Утрачивается разумный контроль над поступками, снижается критическое отношение к себе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Механизм воздействия алкоголя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81" name="AutoShape 4"/>
          <p:cNvSpPr/>
          <p:nvPr/>
        </p:nvSpPr>
        <p:spPr>
          <a:xfrm>
            <a:off x="4427640" y="2257560"/>
            <a:ext cx="431640" cy="64764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82" name="AutoShape 5"/>
          <p:cNvSpPr/>
          <p:nvPr/>
        </p:nvSpPr>
        <p:spPr>
          <a:xfrm>
            <a:off x="2673360" y="3076560"/>
            <a:ext cx="394164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Segoe UI"/>
                <a:ea typeface="Segoe UI"/>
              </a:rPr>
              <a:t>Угнетение тормозных процессов в коре головного мозга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"/>
          <p:cNvPicPr/>
          <p:nvPr/>
        </p:nvPicPr>
        <p:blipFill>
          <a:blip r:embed="rId3"/>
          <a:stretch/>
        </p:blipFill>
        <p:spPr>
          <a:xfrm>
            <a:off x="1440" y="-812880"/>
            <a:ext cx="9142560" cy="608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"/>
          <p:cNvPicPr/>
          <p:nvPr/>
        </p:nvPicPr>
        <p:blipFill>
          <a:blip r:embed="rId3"/>
          <a:stretch/>
        </p:blipFill>
        <p:spPr>
          <a:xfrm>
            <a:off x="-20520" y="-523800"/>
            <a:ext cx="9180360" cy="612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"/>
          <p:cNvPicPr/>
          <p:nvPr/>
        </p:nvPicPr>
        <p:blipFill>
          <a:blip r:embed="rId3"/>
          <a:stretch/>
        </p:blipFill>
        <p:spPr>
          <a:xfrm>
            <a:off x="1692360" y="385920"/>
            <a:ext cx="1820880" cy="4371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4"/>
          <a:stretch/>
        </p:blipFill>
        <p:spPr>
          <a:xfrm>
            <a:off x="4356000" y="771480"/>
            <a:ext cx="3627360" cy="350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"/>
          <p:cNvPicPr/>
          <p:nvPr/>
        </p:nvPicPr>
        <p:blipFill>
          <a:blip r:embed="rId3"/>
          <a:stretch/>
        </p:blipFill>
        <p:spPr>
          <a:xfrm>
            <a:off x="0" y="-6681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" descr=""/>
          <p:cNvPicPr/>
          <p:nvPr/>
        </p:nvPicPr>
        <p:blipFill>
          <a:blip r:embed="rId3"/>
          <a:stretch/>
        </p:blipFill>
        <p:spPr>
          <a:xfrm>
            <a:off x="0" y="-857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"/>
          <p:cNvPicPr/>
          <p:nvPr/>
        </p:nvPicPr>
        <p:blipFill>
          <a:blip r:embed="rId3"/>
          <a:stretch/>
        </p:blipFill>
        <p:spPr>
          <a:xfrm>
            <a:off x="2820960" y="1241280"/>
            <a:ext cx="3311640" cy="3567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4"/>
          <a:stretch/>
        </p:blipFill>
        <p:spPr>
          <a:xfrm>
            <a:off x="3397320" y="268200"/>
            <a:ext cx="2482920" cy="194796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4"/>
          <p:cNvGrpSpPr/>
          <p:nvPr/>
        </p:nvGrpSpPr>
        <p:grpSpPr>
          <a:xfrm>
            <a:off x="5052600" y="538200"/>
            <a:ext cx="3890880" cy="1166760"/>
            <a:chOff x="5052600" y="538200"/>
            <a:chExt cx="3890880" cy="1166760"/>
          </a:xfrm>
        </p:grpSpPr>
        <p:sp>
          <p:nvSpPr>
            <p:cNvPr id="495" name="Text Box 5"/>
            <p:cNvSpPr/>
            <p:nvPr/>
          </p:nvSpPr>
          <p:spPr>
            <a:xfrm>
              <a:off x="5919840" y="538200"/>
              <a:ext cx="30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питательные вещества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96" name="Line 6"/>
            <p:cNvSpPr/>
            <p:nvPr/>
          </p:nvSpPr>
          <p:spPr>
            <a:xfrm flipH="1">
              <a:off x="5052600" y="1012680"/>
              <a:ext cx="2151720" cy="692280"/>
            </a:xfrm>
            <a:prstGeom prst="line">
              <a:avLst/>
            </a:prstGeom>
            <a:ln w="10080">
              <a:solidFill>
                <a:srgbClr val="40404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97" name="Group 7"/>
          <p:cNvGrpSpPr/>
          <p:nvPr/>
        </p:nvGrpSpPr>
        <p:grpSpPr>
          <a:xfrm>
            <a:off x="1138320" y="914400"/>
            <a:ext cx="3020760" cy="381960"/>
            <a:chOff x="1138320" y="914400"/>
            <a:chExt cx="3020760" cy="381960"/>
          </a:xfrm>
        </p:grpSpPr>
        <p:sp>
          <p:nvSpPr>
            <p:cNvPr id="498" name="Text Box 8"/>
            <p:cNvSpPr/>
            <p:nvPr/>
          </p:nvSpPr>
          <p:spPr>
            <a:xfrm>
              <a:off x="1138320" y="914400"/>
              <a:ext cx="30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кислород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99" name="Line 9"/>
            <p:cNvSpPr/>
            <p:nvPr/>
          </p:nvSpPr>
          <p:spPr>
            <a:xfrm flipV="1">
              <a:off x="1676520" y="1204560"/>
              <a:ext cx="2130480" cy="91800"/>
            </a:xfrm>
            <a:prstGeom prst="line">
              <a:avLst/>
            </a:prstGeom>
            <a:ln w="10080">
              <a:solidFill>
                <a:srgbClr val="40404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2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Инсульт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3"/>
          <a:stretch/>
        </p:blipFill>
        <p:spPr>
          <a:xfrm>
            <a:off x="1187280" y="836640"/>
            <a:ext cx="2835360" cy="39402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4"/>
          <a:stretch/>
        </p:blipFill>
        <p:spPr>
          <a:xfrm>
            <a:off x="4859280" y="773280"/>
            <a:ext cx="292572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2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Инсульт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06" name="AutoShape 3"/>
          <p:cNvSpPr/>
          <p:nvPr/>
        </p:nvSpPr>
        <p:spPr>
          <a:xfrm>
            <a:off x="2627280" y="915840"/>
            <a:ext cx="4281480" cy="105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Инсульт может привести к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2627280" y="2139840"/>
            <a:ext cx="45720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коме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параличам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арушениям интеллекта или памяти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смерти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1" descr="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51674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2"/>
          <p:cNvSpPr/>
          <p:nvPr/>
        </p:nvSpPr>
        <p:spPr>
          <a:xfrm>
            <a:off x="452520" y="1131840"/>
            <a:ext cx="38163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арушение 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мозгового кровообращения или гибель нервных клеток из-за сдавливания может произойти в результате заболеваний, связанных с </a:t>
            </a: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опухолями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3"/>
          <a:stretch/>
        </p:blipFill>
        <p:spPr>
          <a:xfrm>
            <a:off x="4721400" y="0"/>
            <a:ext cx="4422600" cy="593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2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Опухоль головного мозга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13" name="AutoShape 3"/>
          <p:cNvSpPr/>
          <p:nvPr/>
        </p:nvSpPr>
        <p:spPr>
          <a:xfrm>
            <a:off x="2627280" y="915840"/>
            <a:ext cx="4281480" cy="105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едполагаемые причины возникновения опухолей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2627280" y="2139840"/>
            <a:ext cx="4572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воздействие винилхлорида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воздействие аспартама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воздействие электромагнитных полей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"/>
          <p:cNvPicPr/>
          <p:nvPr/>
        </p:nvPicPr>
        <p:blipFill>
          <a:blip r:embed="rId3"/>
          <a:stretch/>
        </p:blipFill>
        <p:spPr>
          <a:xfrm>
            <a:off x="1440" y="0"/>
            <a:ext cx="9145800" cy="6859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"/>
          <p:cNvPicPr/>
          <p:nvPr/>
        </p:nvPicPr>
        <p:blipFill>
          <a:blip r:embed="rId3"/>
          <a:stretch/>
        </p:blipFill>
        <p:spPr>
          <a:xfrm>
            <a:off x="0" y="-380880"/>
            <a:ext cx="9180360" cy="612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"/>
          <p:cNvPicPr/>
          <p:nvPr/>
        </p:nvPicPr>
        <p:blipFill>
          <a:blip r:embed="rId3"/>
          <a:stretch/>
        </p:blipFill>
        <p:spPr>
          <a:xfrm>
            <a:off x="-36360" y="-853920"/>
            <a:ext cx="9180360" cy="612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" descr=""/>
          <p:cNvPicPr/>
          <p:nvPr/>
        </p:nvPicPr>
        <p:blipFill>
          <a:blip r:embed="rId1"/>
          <a:stretch/>
        </p:blipFill>
        <p:spPr>
          <a:xfrm>
            <a:off x="1353960" y="141120"/>
            <a:ext cx="650268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"/>
          <p:cNvPicPr/>
          <p:nvPr/>
        </p:nvPicPr>
        <p:blipFill>
          <a:blip r:embed="rId3"/>
          <a:stretch/>
        </p:blipFill>
        <p:spPr>
          <a:xfrm>
            <a:off x="-25560" y="-36360"/>
            <a:ext cx="9169560" cy="609732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3"/>
          <p:cNvSpPr/>
          <p:nvPr/>
        </p:nvSpPr>
        <p:spPr>
          <a:xfrm>
            <a:off x="539640" y="555480"/>
            <a:ext cx="45720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Лёгкое сотрясение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головного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мозга может проявляться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сонливостью, вялостью и тошнотой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5" name="AutoShape 2"/>
          <p:cNvSpPr/>
          <p:nvPr/>
        </p:nvSpPr>
        <p:spPr>
          <a:xfrm>
            <a:off x="2709720" y="195120"/>
            <a:ext cx="4281480" cy="1059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изнаки сотрясения мозга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2709720" y="1419120"/>
            <a:ext cx="457200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потеря сознания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рвота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ретроградная амнезия </a:t>
            </a:r>
            <a:r>
              <a:rPr b="0" i="1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(когда человек не может вспомнить события, предшествующие травме)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2"/>
          <p:cNvSpPr/>
          <p:nvPr/>
        </p:nvSpPr>
        <p:spPr>
          <a:xfrm>
            <a:off x="395280" y="771480"/>
            <a:ext cx="3529080" cy="35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При сотрясении головного мозга или его ушибе в первую очередь необходимо: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уложить на кровать или кушетку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приложить на лоб тряпочку, смоченную холодной водой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емедленно доставить пострадавшего в больницу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3"/>
          <a:stretch/>
        </p:blipFill>
        <p:spPr>
          <a:xfrm>
            <a:off x="4211640" y="0"/>
            <a:ext cx="771516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"/>
          <p:cNvPicPr/>
          <p:nvPr/>
        </p:nvPicPr>
        <p:blipFill>
          <a:blip r:embed="rId3"/>
          <a:stretch/>
        </p:blipFill>
        <p:spPr>
          <a:xfrm>
            <a:off x="1763640" y="771480"/>
            <a:ext cx="5045040" cy="4089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3"/>
          <p:cNvSpPr/>
          <p:nvPr/>
        </p:nvSpPr>
        <p:spPr>
          <a:xfrm>
            <a:off x="0" y="0"/>
            <a:ext cx="916164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Ушиб мозга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2"/>
          <p:cNvSpPr/>
          <p:nvPr/>
        </p:nvSpPr>
        <p:spPr>
          <a:xfrm>
            <a:off x="431640" y="1635120"/>
            <a:ext cx="4572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ервная система человека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это одна из самых важных систем организма, которая отвечает за действие и координацию всех систем и органов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3"/>
          <a:stretch/>
        </p:blipFill>
        <p:spPr>
          <a:xfrm>
            <a:off x="5003640" y="184320"/>
            <a:ext cx="322920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"/>
          <p:cNvPicPr/>
          <p:nvPr/>
        </p:nvPicPr>
        <p:blipFill>
          <a:blip r:embed="rId3"/>
          <a:stretch/>
        </p:blipFill>
        <p:spPr>
          <a:xfrm>
            <a:off x="0" y="-165240"/>
            <a:ext cx="9144000" cy="6072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"/>
          <p:cNvPicPr/>
          <p:nvPr/>
        </p:nvPicPr>
        <p:blipFill>
          <a:blip r:embed="rId3"/>
          <a:stretch/>
        </p:blipFill>
        <p:spPr>
          <a:xfrm>
            <a:off x="-7920" y="-401760"/>
            <a:ext cx="9151920" cy="610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"/>
          <p:cNvPicPr/>
          <p:nvPr/>
        </p:nvPicPr>
        <p:blipFill>
          <a:blip r:embed="rId3"/>
          <a:stretch/>
        </p:blipFill>
        <p:spPr>
          <a:xfrm>
            <a:off x="0" y="-45252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"/>
          <p:cNvSpPr/>
          <p:nvPr/>
        </p:nvSpPr>
        <p:spPr>
          <a:xfrm>
            <a:off x="-324000" y="123840"/>
            <a:ext cx="5904000" cy="237636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900000" y="411120"/>
            <a:ext cx="4572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Профилактика заболеваний нервной системы должна занимать не последнее место в жизни каждого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2"/>
          <p:cNvSpPr/>
          <p:nvPr/>
        </p:nvSpPr>
        <p:spPr>
          <a:xfrm>
            <a:off x="2625840" y="361800"/>
            <a:ext cx="4279680" cy="105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офилактика заболеваний нервной системы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2611440" y="1527120"/>
            <a:ext cx="45720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правильное питание и здоровый образ жизни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отказ от вредных привычек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использование необходимых средств защиты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своевременное лечение на ранних стадиях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2"/>
          <p:cNvGrpSpPr/>
          <p:nvPr/>
        </p:nvGrpSpPr>
        <p:grpSpPr>
          <a:xfrm>
            <a:off x="573120" y="1893960"/>
            <a:ext cx="3182760" cy="1828800"/>
            <a:chOff x="573120" y="1893960"/>
            <a:chExt cx="3182760" cy="1828800"/>
          </a:xfrm>
        </p:grpSpPr>
        <p:sp>
          <p:nvSpPr>
            <p:cNvPr id="416" name="Line 3"/>
            <p:cNvSpPr/>
            <p:nvPr/>
          </p:nvSpPr>
          <p:spPr>
            <a:xfrm flipH="1">
              <a:off x="2303280" y="1893960"/>
              <a:ext cx="1292040" cy="97632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17" name="AutoShape 4"/>
            <p:cNvSpPr/>
            <p:nvPr/>
          </p:nvSpPr>
          <p:spPr>
            <a:xfrm>
              <a:off x="573120" y="2863800"/>
              <a:ext cx="3182760" cy="85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Врождённые 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18" name="Group 5"/>
          <p:cNvGrpSpPr/>
          <p:nvPr/>
        </p:nvGrpSpPr>
        <p:grpSpPr>
          <a:xfrm>
            <a:off x="5432400" y="1792440"/>
            <a:ext cx="3005280" cy="1871640"/>
            <a:chOff x="5432400" y="1792440"/>
            <a:chExt cx="3005280" cy="1871640"/>
          </a:xfrm>
        </p:grpSpPr>
        <p:sp>
          <p:nvSpPr>
            <p:cNvPr id="419" name="AutoShape 6"/>
            <p:cNvSpPr/>
            <p:nvPr/>
          </p:nvSpPr>
          <p:spPr>
            <a:xfrm>
              <a:off x="5432400" y="2803680"/>
              <a:ext cx="3005280" cy="860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Приобретённые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20" name="Line 7"/>
            <p:cNvSpPr/>
            <p:nvPr/>
          </p:nvSpPr>
          <p:spPr>
            <a:xfrm>
              <a:off x="5560920" y="1792440"/>
              <a:ext cx="1292400" cy="100476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421" name="AutoShape 8"/>
          <p:cNvSpPr/>
          <p:nvPr/>
        </p:nvSpPr>
        <p:spPr>
          <a:xfrm>
            <a:off x="2763720" y="1338120"/>
            <a:ext cx="3529080" cy="12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оражение нервной системы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3"/>
          <a:stretch/>
        </p:blipFill>
        <p:spPr>
          <a:xfrm>
            <a:off x="539640" y="339840"/>
            <a:ext cx="324036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4" name="Rectangle 3"/>
          <p:cNvSpPr/>
          <p:nvPr/>
        </p:nvSpPr>
        <p:spPr>
          <a:xfrm>
            <a:off x="687240" y="3286080"/>
            <a:ext cx="763272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5c8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4"/>
          <a:stretch/>
        </p:blipFill>
        <p:spPr>
          <a:xfrm>
            <a:off x="684360" y="3292560"/>
            <a:ext cx="1557360" cy="15573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5"/>
          <p:cNvSpPr/>
          <p:nvPr/>
        </p:nvSpPr>
        <p:spPr>
          <a:xfrm>
            <a:off x="2409840" y="3413160"/>
            <a:ext cx="57405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Segoe UI Semibold"/>
                <a:ea typeface="Times New Roman"/>
              </a:rPr>
              <a:t>Гидроцефалия </a:t>
            </a:r>
            <a:r>
              <a:rPr b="0" lang="ru-RU" sz="14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– 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Segoe UI"/>
              </a:rPr>
              <a:t>увеличение объёма мозга из-за нарушения оттока из него спинномозговой жидкости.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5"/>
          <a:stretch/>
        </p:blipFill>
        <p:spPr>
          <a:xfrm>
            <a:off x="4427640" y="268200"/>
            <a:ext cx="353376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"/>
          <p:cNvSpPr/>
          <p:nvPr/>
        </p:nvSpPr>
        <p:spPr>
          <a:xfrm>
            <a:off x="1042920" y="3363840"/>
            <a:ext cx="698508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кроцефал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едоразвитие мозга, когда его масса не достигает 1 кг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2"/>
          <a:stretch/>
        </p:blipFill>
        <p:spPr>
          <a:xfrm>
            <a:off x="2987640" y="627120"/>
            <a:ext cx="367200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33" name="Group 2"/>
          <p:cNvGrpSpPr/>
          <p:nvPr/>
        </p:nvGrpSpPr>
        <p:grpSpPr>
          <a:xfrm>
            <a:off x="880920" y="192240"/>
            <a:ext cx="2608200" cy="1439280"/>
            <a:chOff x="880920" y="192240"/>
            <a:chExt cx="2608200" cy="1439280"/>
          </a:xfrm>
        </p:grpSpPr>
        <p:sp>
          <p:nvSpPr>
            <p:cNvPr id="434" name="Line 3"/>
            <p:cNvSpPr/>
            <p:nvPr/>
          </p:nvSpPr>
          <p:spPr>
            <a:xfrm flipH="1" flipV="1">
              <a:off x="2267280" y="672480"/>
              <a:ext cx="1221840" cy="95904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35" name="AutoShape 4"/>
            <p:cNvSpPr/>
            <p:nvPr/>
          </p:nvSpPr>
          <p:spPr>
            <a:xfrm>
              <a:off x="880920" y="192240"/>
              <a:ext cx="2244960" cy="108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Инфекционные заболевания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36" name="Group 5"/>
          <p:cNvGrpSpPr/>
          <p:nvPr/>
        </p:nvGrpSpPr>
        <p:grpSpPr>
          <a:xfrm>
            <a:off x="5219640" y="239760"/>
            <a:ext cx="2373480" cy="1535760"/>
            <a:chOff x="5219640" y="239760"/>
            <a:chExt cx="2373480" cy="1535760"/>
          </a:xfrm>
        </p:grpSpPr>
        <p:sp>
          <p:nvSpPr>
            <p:cNvPr id="437" name="Line 6"/>
            <p:cNvSpPr/>
            <p:nvPr/>
          </p:nvSpPr>
          <p:spPr>
            <a:xfrm flipV="1">
              <a:off x="5610240" y="673560"/>
              <a:ext cx="1074600" cy="110196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38" name="AutoShape 7"/>
            <p:cNvSpPr/>
            <p:nvPr/>
          </p:nvSpPr>
          <p:spPr>
            <a:xfrm>
              <a:off x="5219640" y="239760"/>
              <a:ext cx="2373480" cy="1038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Сотрясения 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головного мозга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39" name="Group 8"/>
          <p:cNvGrpSpPr/>
          <p:nvPr/>
        </p:nvGrpSpPr>
        <p:grpSpPr>
          <a:xfrm>
            <a:off x="1006560" y="3076560"/>
            <a:ext cx="2407680" cy="1724040"/>
            <a:chOff x="1006560" y="3076560"/>
            <a:chExt cx="2407680" cy="1724040"/>
          </a:xfrm>
        </p:grpSpPr>
        <p:sp>
          <p:nvSpPr>
            <p:cNvPr id="440" name="Line 9"/>
            <p:cNvSpPr/>
            <p:nvPr/>
          </p:nvSpPr>
          <p:spPr>
            <a:xfrm flipH="1">
              <a:off x="2303280" y="3076560"/>
              <a:ext cx="1110960" cy="100980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41" name="AutoShape 10"/>
            <p:cNvSpPr/>
            <p:nvPr/>
          </p:nvSpPr>
          <p:spPr>
            <a:xfrm>
              <a:off x="1006560" y="3746520"/>
              <a:ext cx="2333520" cy="1054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Вредные привычки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42" name="Group 11"/>
          <p:cNvGrpSpPr/>
          <p:nvPr/>
        </p:nvGrpSpPr>
        <p:grpSpPr>
          <a:xfrm>
            <a:off x="5468760" y="3032280"/>
            <a:ext cx="2772000" cy="1676160"/>
            <a:chOff x="5468760" y="3032280"/>
            <a:chExt cx="2772000" cy="1676160"/>
          </a:xfrm>
        </p:grpSpPr>
        <p:sp>
          <p:nvSpPr>
            <p:cNvPr id="443" name="Line 12"/>
            <p:cNvSpPr/>
            <p:nvPr/>
          </p:nvSpPr>
          <p:spPr>
            <a:xfrm>
              <a:off x="5508720" y="3032280"/>
              <a:ext cx="1251000" cy="108252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44" name="AutoShape 13"/>
            <p:cNvSpPr/>
            <p:nvPr/>
          </p:nvSpPr>
          <p:spPr>
            <a:xfrm>
              <a:off x="5468760" y="3774960"/>
              <a:ext cx="2772000" cy="933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Разрывы периферических нервов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445" name="AutoShape 14"/>
          <p:cNvSpPr/>
          <p:nvPr/>
        </p:nvSpPr>
        <p:spPr>
          <a:xfrm>
            <a:off x="2535120" y="1585800"/>
            <a:ext cx="3989520" cy="1708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иобретённые заболевания центральной нервной системы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"/>
          <p:cNvPicPr/>
          <p:nvPr/>
        </p:nvPicPr>
        <p:blipFill>
          <a:blip r:embed="rId3"/>
          <a:stretch/>
        </p:blipFill>
        <p:spPr>
          <a:xfrm>
            <a:off x="0" y="-857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2"/>
          <p:cNvSpPr/>
          <p:nvPr/>
        </p:nvSpPr>
        <p:spPr>
          <a:xfrm>
            <a:off x="531720" y="1380960"/>
            <a:ext cx="457200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UI"/>
                <a:ea typeface="Times New Roman"/>
              </a:rPr>
              <a:t>К инфекционным</a:t>
            </a:r>
            <a:endParaRPr b="0" lang="en-US" sz="2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болезням относятся менингит, энцефалит, корь, ветрянка, свинка, герпес, краснуха, бешенство, полиомиелит и многие другие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3"/>
          <a:stretch/>
        </p:blipFill>
        <p:spPr>
          <a:xfrm>
            <a:off x="5602320" y="0"/>
            <a:ext cx="3541680" cy="6296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7:01:35Z</dcterms:created>
  <dc:creator>Пользователь</dc:creator>
  <dc:description/>
  <dc:language>en-US</dc:language>
  <cp:lastModifiedBy>Роман</cp:lastModifiedBy>
  <dcterms:modified xsi:type="dcterms:W3CDTF">2023-10-31T08:30:37Z</dcterms:modified>
  <cp:revision>1250</cp:revision>
  <dc:subject/>
  <dc:title>Презентация PowerPoint</dc:title>
</cp:coreProperties>
</file>